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37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16C7-C133-4A14-BCA1-A4C8869E7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Aqaba Special Economic Zon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y opportunities for investment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Tourism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Light and Heavy Industr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Servic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Commerci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Logistics / Warehous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Health / Environmen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Ajloun Development Area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Jabal Ajloun Resort Town Opportunities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Eco - Tourism Development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Hotels, Spas and Resort amenitie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Community style living; varied real estate development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Retail and services.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Amman Development Area (Dabouq Business Park)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ixed-use international standard offic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Opportunities in: </a:t>
            </a: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Professional Services, O/NGO’s , Medical and Health, Education, Leisure &amp; entertainment, Safety, Security and Compliance, Media, and Residenti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Dead Sea Development Area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Investment opportunities are focused in the tourism and hospitality sector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4 and 5-star international resort properties and hotel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3-star accommodation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Eco-lodges and other facilitie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Residential developments and community servic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Recreational facilities, spas, restaurants, conference centers and other attractions.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Irbid Development Area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rbid is home to four universities, including the Jordan University of Science and Technology, one of Jordan’s best ICT and Healthcare universities, which also encompasses the King Abdullah University Hospital.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e development area focuses on: </a:t>
            </a:r>
            <a:r>
              <a:rPr b="0" lang="en-CA" sz="600" spc="-1" strike="noStrike">
                <a:solidFill>
                  <a:srgbClr val="000000"/>
                </a:solidFill>
                <a:latin typeface="Calibri"/>
              </a:rPr>
              <a:t>IT outsourcing, health care, professional services, middle and back offices, research, and developmen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KHBTDA (King Hussein Bin Talal Development Area)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esigned to be an industrial and logistics hub. King Hussein Airbase (adjacent to the development area) will be transformed into a mixed use airport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ndustrial opportunities (light and medium industries)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od and bevera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harma and medical suppli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ight chemical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ufacturing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Ma'an Development Area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ntains an industrial park designed for light, medium and heavy industries. Currently, the park houses produces of ceramics, plastics and electrical appliances.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Will also contains a Hajj Oasis to service pilgrims on their way to Mecc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 Skill Development Center will offer vocational training servic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Will also contain a Residential Community for both residents and visitors, complete with schools and healthcare center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986C-575E-4EAD-8195-7036C396D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5F5A-FBF7-46A2-9588-BEAB06595B8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0875-1B54-4E2B-A650-0760C0C2B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21D27-A455-4725-A540-98F1FEEC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9E147-69BA-4896-99AD-54826E08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A8FE4-6545-42CA-A0E5-3259D2EC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AE165-5EDB-4138-BAF0-9A730F64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A228C-5DFE-4708-9914-4ED82783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04A76-0859-4272-9697-8C37FCD0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D39E8-2F4E-4F87-9CC7-FF020DD6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51F77-7953-49DC-89F0-1A5CF152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FBBD2-41BE-4531-B0D0-19A25882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8B822-6672-451B-9496-53CA6892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45A54-AC86-411D-8D21-98D1086B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2D021-FF51-4B71-8CC8-A3323C5C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149F5-8BB0-44B1-BEEA-A9293746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F279C-2C06-4423-B6AC-3B354F09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F94B4-149C-4CB5-AE7F-54C8D399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DD028-11E7-4404-B9CD-8D014BA0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EB7F5-392D-4C0A-BB81-A8154AF4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539B5-E596-442A-B39A-3B4F5F24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95624-FAB7-4760-8835-45D8D8A1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70668-80C1-4C00-9905-36164D9D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EB831-B8D8-4DBF-9190-CC810053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C5A42-1F68-4AB0-8E7A-77870258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2CB7F-B39D-41A0-8C63-2A1D9DF2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D2772-BFC3-4D93-BD1E-35B05E67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C42DC-EB03-4D06-8BC0-A391AABE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CF635-8688-43EE-BE82-938DF5C8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7C9FB-5E00-43D5-82DA-33151571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1317D-245F-44E3-947F-E3987F87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9F6F5-238C-4331-AF8D-AFD8E761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18EEB-4C5F-48CB-A89D-C6130B17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68F-18E6-48F5-87AD-7DEAA0AF7BF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5E721-5D3B-4F34-9611-75DA536D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C3ED8-62DA-45DF-8E18-C1D9789E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E3D2F-EE06-4EFF-9F73-52F5F0FF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DBD60-B856-4407-AE28-35955A97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8600B-120E-46FE-A75D-BE5F5130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A9BC5-BB5F-4DCE-A37F-43289556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212FC-842C-4C4F-BED5-208E675D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71B04-9A89-4839-89E4-C7560DF6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24478-6AF4-4A18-9134-D599657B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AD722-FAF3-4DCC-9256-8CEC1065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F26-58FA-4B5E-A396-8DC705698EC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49B3B-88C5-40A5-89C8-24DB1AD4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F3B90-2F2F-478F-9AFA-11D92600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5AFAD-1E5E-4901-B0B8-35FAE8F7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61B87-11A9-494F-A343-73137F22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F406C-826B-4FA9-B70A-E9A62371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E21-980C-45A2-84D4-C6B7A2347D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BDC-D447-4FB1-B747-E599C58E5B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82B-AE9B-4710-BE72-1F2E2C04B6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58F-F68D-4D0B-BEC6-6AC071E650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78D-7E7A-425D-B706-92C1A5FC46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618-242D-4CAC-A2C8-2EA9705C7A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5AF-990D-455C-81EA-D41CD7FBC8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33F-6764-4BA5-AFB8-B191C04683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7DA-F2B5-4E9D-AF66-41D277D123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68B-1D15-4F82-A052-7181702289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9BED-442E-4DDF-87FA-1E22F29DA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7972-7C6A-4207-B047-EBF50C7C560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F78F-3A97-4B43-8471-3B64EF3842B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1FB4-36A1-4420-B929-46BB7646120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4BB1-582D-4145-8A4F-7644843F2A9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E5B0-052C-43BA-8A56-B21D1EBABBA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4CDE-1AA0-4070-8CA5-422A997ADE4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0E29-3EF8-4015-9DB9-CD37FF77CCA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44EB-2459-4799-82FB-0B61EE04AFD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8570-2BCD-40E6-9C9C-1F13D5095CC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281F-39B8-4479-BD1C-862DC07F5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96E7-05C3-4F30-ADFA-1487E1C82DF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4BD07-E1CD-4830-8BE7-7477D008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514E2-81B8-4A39-860A-C815441C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EF91D-B0BF-4496-8424-C5291372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9F7B8-E8ED-4A9B-B998-0F4BDFC8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B049-EAC7-4EB4-BCB4-242E4242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9DD21-3832-44F9-9F99-1F339BA6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3F16E-98F8-443D-89FC-A5914B33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0782-20CF-45C0-8235-3B2B692B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13F46-D5C0-4819-B751-903A6A39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07731-3348-4C1C-9CED-2130C175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DA792-9CA4-4CF0-9E35-206CB4D7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93DC2-9767-49E4-951F-4EE16B00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D970-F95D-48BB-A8C8-23496431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63E71-CAC0-49FE-A023-B6F14BBF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142A5-F098-4126-8B4E-A1F20595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99AC1-C727-4BBB-AE93-5366728C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9234E-016C-456A-BFF8-FF5441FB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315B6-B697-416F-B892-C1865FFA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59A63-9A7C-41DB-8B18-86C103C1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E3A17-5239-4F92-9322-D9055E97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1DA8A-C079-4E4B-8248-2850DFB3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F031C-9A5C-4C14-A0FD-A9FFF08E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8391A-206F-438E-AC5B-9A70A2D1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A47F9-2BF0-4A41-A906-AB84FD88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A10A0-974F-4F09-A6D0-262D59CD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5B868-C8CD-45DA-B355-A93B8ED8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9345F-F52F-48FA-9654-89B8A28A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E968B-CF08-4743-B532-DF5077A1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29990-59DD-46F4-915E-097AEDBA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99EFB-ECBC-417E-9A5A-7D150884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AAF6C-7382-4EA6-935F-E31646FD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91DE7-3332-4FAC-B6F9-E7608FC3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E65C2-7E0B-4273-B280-498F8CA2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7478B-1F0A-48AC-BEF9-953CBACA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59283-5B49-422E-8F42-3280BD26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E9F87-01F8-4A0B-897E-7B0FA91A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B44AF-E859-4714-B8C2-F28456A8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9B752-19D2-407D-BD21-62F96878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5B88B-CC31-4B4E-9C4A-F878D5B3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"/>
          <p:cNvSpPr/>
          <p:nvPr/>
        </p:nvSpPr>
        <p:spPr>
          <a:xfrm>
            <a:off x="969840" y="3240"/>
            <a:ext cx="2349720" cy="6858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9"/>
          <p:cNvSpPr/>
          <p:nvPr/>
        </p:nvSpPr>
        <p:spPr>
          <a:xfrm>
            <a:off x="7920" y="0"/>
            <a:ext cx="9136080" cy="6858000"/>
          </a:xfrm>
          <a:prstGeom prst="rect">
            <a:avLst/>
          </a:prstGeom>
          <a:solidFill>
            <a:srgbClr val="e8d19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2"/>
          <p:cNvSpPr/>
          <p:nvPr/>
        </p:nvSpPr>
        <p:spPr>
          <a:xfrm>
            <a:off x="8423280" y="0"/>
            <a:ext cx="720720" cy="6858000"/>
          </a:xfrm>
          <a:prstGeom prst="rect">
            <a:avLst/>
          </a:prstGeom>
          <a:solidFill>
            <a:srgbClr val="ffff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Rectangle 15"/>
          <p:cNvGrpSpPr/>
          <p:nvPr/>
        </p:nvGrpSpPr>
        <p:grpSpPr>
          <a:xfrm>
            <a:off x="0" y="6424560"/>
            <a:ext cx="9150480" cy="300240"/>
            <a:chOff x="0" y="6424560"/>
            <a:chExt cx="9150480" cy="300240"/>
          </a:xfrm>
        </p:grpSpPr>
        <p:pic>
          <p:nvPicPr>
            <p:cNvPr id="4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6424560"/>
              <a:ext cx="915048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7920" y="6429240"/>
              <a:ext cx="9136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Rectangle 16"/>
          <p:cNvGrpSpPr/>
          <p:nvPr/>
        </p:nvGrpSpPr>
        <p:grpSpPr>
          <a:xfrm>
            <a:off x="-6480" y="974880"/>
            <a:ext cx="9156960" cy="85680"/>
            <a:chOff x="-6480" y="974880"/>
            <a:chExt cx="9156960" cy="85680"/>
          </a:xfrm>
        </p:grpSpPr>
        <p:pic>
          <p:nvPicPr>
            <p:cNvPr id="7" name="Rectangle 16" descr=""/>
            <p:cNvPicPr/>
            <p:nvPr/>
          </p:nvPicPr>
          <p:blipFill>
            <a:blip r:embed="rId3"/>
            <a:stretch/>
          </p:blipFill>
          <p:spPr>
            <a:xfrm>
              <a:off x="-6480" y="9748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98100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ftr" idx="1"/>
          </p:nvPr>
        </p:nvSpPr>
        <p:spPr>
          <a:xfrm>
            <a:off x="2214360" y="6429240"/>
            <a:ext cx="4429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jordaninvestm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Content Placeholder 2"/>
          <p:cNvSpPr/>
          <p:nvPr/>
        </p:nvSpPr>
        <p:spPr>
          <a:xfrm>
            <a:off x="500040" y="1071720"/>
            <a:ext cx="8501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itle 1"/>
          <p:cNvSpPr/>
          <p:nvPr/>
        </p:nvSpPr>
        <p:spPr>
          <a:xfrm>
            <a:off x="357120" y="0"/>
            <a:ext cx="80503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9" descr=""/>
          <p:cNvPicPr/>
          <p:nvPr/>
        </p:nvPicPr>
        <p:blipFill>
          <a:blip r:embed="rId4"/>
          <a:stretch/>
        </p:blipFill>
        <p:spPr>
          <a:xfrm>
            <a:off x="8101080" y="44280"/>
            <a:ext cx="96840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矩形 10"/>
          <p:cNvSpPr/>
          <p:nvPr/>
        </p:nvSpPr>
        <p:spPr>
          <a:xfrm>
            <a:off x="969840" y="3240"/>
            <a:ext cx="2349720" cy="6858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9"/>
          <p:cNvSpPr/>
          <p:nvPr/>
        </p:nvSpPr>
        <p:spPr>
          <a:xfrm>
            <a:off x="7920" y="0"/>
            <a:ext cx="9136080" cy="6858000"/>
          </a:xfrm>
          <a:prstGeom prst="rect">
            <a:avLst/>
          </a:prstGeom>
          <a:solidFill>
            <a:srgbClr val="e8d19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12"/>
          <p:cNvSpPr/>
          <p:nvPr/>
        </p:nvSpPr>
        <p:spPr>
          <a:xfrm>
            <a:off x="8423280" y="0"/>
            <a:ext cx="720720" cy="6858000"/>
          </a:xfrm>
          <a:prstGeom prst="rect">
            <a:avLst/>
          </a:prstGeom>
          <a:solidFill>
            <a:srgbClr val="ffff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Rectangle 15"/>
          <p:cNvGrpSpPr/>
          <p:nvPr/>
        </p:nvGrpSpPr>
        <p:grpSpPr>
          <a:xfrm>
            <a:off x="0" y="6424560"/>
            <a:ext cx="9150480" cy="300240"/>
            <a:chOff x="0" y="6424560"/>
            <a:chExt cx="9150480" cy="300240"/>
          </a:xfrm>
        </p:grpSpPr>
        <p:pic>
          <p:nvPicPr>
            <p:cNvPr id="457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6424560"/>
              <a:ext cx="915048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7920" y="6429240"/>
              <a:ext cx="9136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Rectangle 16"/>
          <p:cNvGrpSpPr/>
          <p:nvPr/>
        </p:nvGrpSpPr>
        <p:grpSpPr>
          <a:xfrm>
            <a:off x="-6480" y="974880"/>
            <a:ext cx="9156960" cy="85680"/>
            <a:chOff x="-6480" y="974880"/>
            <a:chExt cx="9156960" cy="85680"/>
          </a:xfrm>
        </p:grpSpPr>
        <p:pic>
          <p:nvPicPr>
            <p:cNvPr id="460" name="Rectangle 16" descr=""/>
            <p:cNvPicPr/>
            <p:nvPr/>
          </p:nvPicPr>
          <p:blipFill>
            <a:blip r:embed="rId3"/>
            <a:stretch/>
          </p:blipFill>
          <p:spPr>
            <a:xfrm>
              <a:off x="-6480" y="9748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0" y="98100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Content Placeholder 2"/>
          <p:cNvSpPr/>
          <p:nvPr/>
        </p:nvSpPr>
        <p:spPr>
          <a:xfrm>
            <a:off x="500040" y="1071720"/>
            <a:ext cx="8501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itle 1"/>
          <p:cNvSpPr/>
          <p:nvPr/>
        </p:nvSpPr>
        <p:spPr>
          <a:xfrm>
            <a:off x="357120" y="0"/>
            <a:ext cx="80503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"/>
          <p:cNvPicPr/>
          <p:nvPr/>
        </p:nvPicPr>
        <p:blipFill>
          <a:blip r:embed="rId4"/>
          <a:stretch/>
        </p:blipFill>
        <p:spPr>
          <a:xfrm>
            <a:off x="8101080" y="4428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dt" idx="19"/>
          </p:nvPr>
        </p:nvSpPr>
        <p:spPr>
          <a:xfrm>
            <a:off x="746280" y="6401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2788-9FC5-493B-A229-C91CFAE6985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ftr" idx="20"/>
          </p:nvPr>
        </p:nvSpPr>
        <p:spPr>
          <a:xfrm>
            <a:off x="1928520" y="6429240"/>
            <a:ext cx="4429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1"/>
          </p:nvPr>
        </p:nvSpPr>
        <p:spPr>
          <a:xfrm>
            <a:off x="6469200" y="6384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0768-04DC-45BF-9F76-4F0419C912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矩形 10"/>
          <p:cNvSpPr/>
          <p:nvPr/>
        </p:nvSpPr>
        <p:spPr>
          <a:xfrm>
            <a:off x="969840" y="3240"/>
            <a:ext cx="2349720" cy="6858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9"/>
          <p:cNvSpPr/>
          <p:nvPr/>
        </p:nvSpPr>
        <p:spPr>
          <a:xfrm>
            <a:off x="7920" y="0"/>
            <a:ext cx="9136080" cy="6858000"/>
          </a:xfrm>
          <a:prstGeom prst="rect">
            <a:avLst/>
          </a:prstGeom>
          <a:solidFill>
            <a:srgbClr val="e8d19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12"/>
          <p:cNvSpPr/>
          <p:nvPr/>
        </p:nvSpPr>
        <p:spPr>
          <a:xfrm>
            <a:off x="8423280" y="0"/>
            <a:ext cx="720720" cy="6858000"/>
          </a:xfrm>
          <a:prstGeom prst="rect">
            <a:avLst/>
          </a:prstGeom>
          <a:solidFill>
            <a:srgbClr val="ffff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Rectangle 15"/>
          <p:cNvGrpSpPr/>
          <p:nvPr/>
        </p:nvGrpSpPr>
        <p:grpSpPr>
          <a:xfrm>
            <a:off x="0" y="6424560"/>
            <a:ext cx="9150480" cy="300240"/>
            <a:chOff x="0" y="6424560"/>
            <a:chExt cx="9150480" cy="300240"/>
          </a:xfrm>
        </p:grpSpPr>
        <p:pic>
          <p:nvPicPr>
            <p:cNvPr id="508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6424560"/>
              <a:ext cx="915048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7920" y="6429240"/>
              <a:ext cx="9136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Rectangle 16"/>
          <p:cNvGrpSpPr/>
          <p:nvPr/>
        </p:nvGrpSpPr>
        <p:grpSpPr>
          <a:xfrm>
            <a:off x="-6480" y="974880"/>
            <a:ext cx="9156960" cy="85680"/>
            <a:chOff x="-6480" y="974880"/>
            <a:chExt cx="9156960" cy="85680"/>
          </a:xfrm>
        </p:grpSpPr>
        <p:pic>
          <p:nvPicPr>
            <p:cNvPr id="511" name="Rectangle 16" descr=""/>
            <p:cNvPicPr/>
            <p:nvPr/>
          </p:nvPicPr>
          <p:blipFill>
            <a:blip r:embed="rId3"/>
            <a:stretch/>
          </p:blipFill>
          <p:spPr>
            <a:xfrm>
              <a:off x="-6480" y="9748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0" y="98100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Content Placeholder 2"/>
          <p:cNvSpPr/>
          <p:nvPr/>
        </p:nvSpPr>
        <p:spPr>
          <a:xfrm>
            <a:off x="500040" y="1071720"/>
            <a:ext cx="8501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itle 1"/>
          <p:cNvSpPr/>
          <p:nvPr/>
        </p:nvSpPr>
        <p:spPr>
          <a:xfrm>
            <a:off x="357120" y="0"/>
            <a:ext cx="80503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9" descr=""/>
          <p:cNvPicPr/>
          <p:nvPr/>
        </p:nvPicPr>
        <p:blipFill>
          <a:blip r:embed="rId4"/>
          <a:stretch/>
        </p:blipFill>
        <p:spPr>
          <a:xfrm>
            <a:off x="8101080" y="4428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dt" idx="22"/>
          </p:nvPr>
        </p:nvSpPr>
        <p:spPr>
          <a:xfrm>
            <a:off x="746280" y="6401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594B-59FA-4766-88E8-76898807AC4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ftr" idx="23"/>
          </p:nvPr>
        </p:nvSpPr>
        <p:spPr>
          <a:xfrm>
            <a:off x="1928520" y="6429240"/>
            <a:ext cx="4429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24"/>
          </p:nvPr>
        </p:nvSpPr>
        <p:spPr>
          <a:xfrm>
            <a:off x="6469200" y="6384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7DB0-EF8B-4574-B00A-17939F26F4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10"/>
          <p:cNvSpPr/>
          <p:nvPr/>
        </p:nvSpPr>
        <p:spPr>
          <a:xfrm>
            <a:off x="969840" y="3240"/>
            <a:ext cx="2349720" cy="6858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9"/>
          <p:cNvSpPr/>
          <p:nvPr/>
        </p:nvSpPr>
        <p:spPr>
          <a:xfrm>
            <a:off x="7920" y="0"/>
            <a:ext cx="9136080" cy="6858000"/>
          </a:xfrm>
          <a:prstGeom prst="rect">
            <a:avLst/>
          </a:prstGeom>
          <a:solidFill>
            <a:srgbClr val="e8d19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12"/>
          <p:cNvSpPr/>
          <p:nvPr/>
        </p:nvSpPr>
        <p:spPr>
          <a:xfrm>
            <a:off x="8423280" y="0"/>
            <a:ext cx="720720" cy="6858000"/>
          </a:xfrm>
          <a:prstGeom prst="rect">
            <a:avLst/>
          </a:prstGeom>
          <a:solidFill>
            <a:srgbClr val="ffff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Rectangle 15"/>
          <p:cNvGrpSpPr/>
          <p:nvPr/>
        </p:nvGrpSpPr>
        <p:grpSpPr>
          <a:xfrm>
            <a:off x="0" y="6424560"/>
            <a:ext cx="9150480" cy="300240"/>
            <a:chOff x="0" y="6424560"/>
            <a:chExt cx="9150480" cy="300240"/>
          </a:xfrm>
        </p:grpSpPr>
        <p:pic>
          <p:nvPicPr>
            <p:cNvPr id="559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6424560"/>
              <a:ext cx="915048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7920" y="6429240"/>
              <a:ext cx="9136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Rectangle 16"/>
          <p:cNvGrpSpPr/>
          <p:nvPr/>
        </p:nvGrpSpPr>
        <p:grpSpPr>
          <a:xfrm>
            <a:off x="-6480" y="974880"/>
            <a:ext cx="9156960" cy="85680"/>
            <a:chOff x="-6480" y="974880"/>
            <a:chExt cx="9156960" cy="85680"/>
          </a:xfrm>
        </p:grpSpPr>
        <p:pic>
          <p:nvPicPr>
            <p:cNvPr id="562" name="Rectangle 16" descr=""/>
            <p:cNvPicPr/>
            <p:nvPr/>
          </p:nvPicPr>
          <p:blipFill>
            <a:blip r:embed="rId3"/>
            <a:stretch/>
          </p:blipFill>
          <p:spPr>
            <a:xfrm>
              <a:off x="-6480" y="9748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0" y="98100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Content Placeholder 2"/>
          <p:cNvSpPr/>
          <p:nvPr/>
        </p:nvSpPr>
        <p:spPr>
          <a:xfrm>
            <a:off x="500040" y="1071720"/>
            <a:ext cx="8501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tle 1"/>
          <p:cNvSpPr/>
          <p:nvPr/>
        </p:nvSpPr>
        <p:spPr>
          <a:xfrm>
            <a:off x="357120" y="0"/>
            <a:ext cx="80503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9" descr=""/>
          <p:cNvPicPr/>
          <p:nvPr/>
        </p:nvPicPr>
        <p:blipFill>
          <a:blip r:embed="rId4"/>
          <a:stretch/>
        </p:blipFill>
        <p:spPr>
          <a:xfrm>
            <a:off x="8101080" y="4428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dt" idx="25"/>
          </p:nvPr>
        </p:nvSpPr>
        <p:spPr>
          <a:xfrm>
            <a:off x="746280" y="6401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1C99-D7AF-4C4D-9532-6F39ECE30AE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ftr" idx="26"/>
          </p:nvPr>
        </p:nvSpPr>
        <p:spPr>
          <a:xfrm>
            <a:off x="1928520" y="6429240"/>
            <a:ext cx="4429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Num" idx="27"/>
          </p:nvPr>
        </p:nvSpPr>
        <p:spPr>
          <a:xfrm>
            <a:off x="6469200" y="6384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1CED-664D-45E3-907B-84988EED4D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0"/>
          <p:cNvSpPr/>
          <p:nvPr/>
        </p:nvSpPr>
        <p:spPr>
          <a:xfrm>
            <a:off x="969840" y="3240"/>
            <a:ext cx="2349720" cy="6858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7920" y="0"/>
            <a:ext cx="9136080" cy="6858000"/>
          </a:xfrm>
          <a:prstGeom prst="rect">
            <a:avLst/>
          </a:prstGeom>
          <a:solidFill>
            <a:srgbClr val="e8d19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8423280" y="0"/>
            <a:ext cx="720720" cy="6858000"/>
          </a:xfrm>
          <a:prstGeom prst="rect">
            <a:avLst/>
          </a:prstGeom>
          <a:solidFill>
            <a:srgbClr val="ffff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Rectangle 15"/>
          <p:cNvGrpSpPr/>
          <p:nvPr/>
        </p:nvGrpSpPr>
        <p:grpSpPr>
          <a:xfrm>
            <a:off x="0" y="6424560"/>
            <a:ext cx="9150480" cy="300240"/>
            <a:chOff x="0" y="6424560"/>
            <a:chExt cx="9150480" cy="300240"/>
          </a:xfrm>
        </p:grpSpPr>
        <p:pic>
          <p:nvPicPr>
            <p:cNvPr id="53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6424560"/>
              <a:ext cx="915048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920" y="6429240"/>
              <a:ext cx="9136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Rectangle 16"/>
          <p:cNvGrpSpPr/>
          <p:nvPr/>
        </p:nvGrpSpPr>
        <p:grpSpPr>
          <a:xfrm>
            <a:off x="-6480" y="974880"/>
            <a:ext cx="9156960" cy="85680"/>
            <a:chOff x="-6480" y="974880"/>
            <a:chExt cx="9156960" cy="85680"/>
          </a:xfrm>
        </p:grpSpPr>
        <p:pic>
          <p:nvPicPr>
            <p:cNvPr id="56" name="Rectangle 16" descr=""/>
            <p:cNvPicPr/>
            <p:nvPr/>
          </p:nvPicPr>
          <p:blipFill>
            <a:blip r:embed="rId3"/>
            <a:stretch/>
          </p:blipFill>
          <p:spPr>
            <a:xfrm>
              <a:off x="-6480" y="9748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98100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Content Placeholder 2"/>
          <p:cNvSpPr/>
          <p:nvPr/>
        </p:nvSpPr>
        <p:spPr>
          <a:xfrm>
            <a:off x="500040" y="1071720"/>
            <a:ext cx="8501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357120" y="0"/>
            <a:ext cx="80503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4"/>
          <a:stretch/>
        </p:blipFill>
        <p:spPr>
          <a:xfrm>
            <a:off x="8101080" y="44280"/>
            <a:ext cx="968400" cy="83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5"/>
          <a:stretch/>
        </p:blipFill>
        <p:spPr>
          <a:xfrm>
            <a:off x="8101080" y="6336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ftr" idx="2"/>
          </p:nvPr>
        </p:nvSpPr>
        <p:spPr>
          <a:xfrm>
            <a:off x="307152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jordaninvestme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3"/>
          </p:nvPr>
        </p:nvSpPr>
        <p:spPr>
          <a:xfrm>
            <a:off x="671472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E825-48D8-40B7-BE44-01719EAB81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0"/>
          <p:cNvSpPr/>
          <p:nvPr/>
        </p:nvSpPr>
        <p:spPr>
          <a:xfrm>
            <a:off x="969840" y="3240"/>
            <a:ext cx="2349720" cy="6858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7920" y="0"/>
            <a:ext cx="9136080" cy="6858000"/>
          </a:xfrm>
          <a:prstGeom prst="rect">
            <a:avLst/>
          </a:prstGeom>
          <a:solidFill>
            <a:srgbClr val="e8d19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8423280" y="0"/>
            <a:ext cx="720720" cy="6858000"/>
          </a:xfrm>
          <a:prstGeom prst="rect">
            <a:avLst/>
          </a:prstGeom>
          <a:solidFill>
            <a:srgbClr val="ffff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Rectangle 15"/>
          <p:cNvGrpSpPr/>
          <p:nvPr/>
        </p:nvGrpSpPr>
        <p:grpSpPr>
          <a:xfrm>
            <a:off x="0" y="6424560"/>
            <a:ext cx="9150480" cy="300240"/>
            <a:chOff x="0" y="6424560"/>
            <a:chExt cx="9150480" cy="300240"/>
          </a:xfrm>
        </p:grpSpPr>
        <p:pic>
          <p:nvPicPr>
            <p:cNvPr id="104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6424560"/>
              <a:ext cx="915048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920" y="6429240"/>
              <a:ext cx="9136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Rectangle 16"/>
          <p:cNvGrpSpPr/>
          <p:nvPr/>
        </p:nvGrpSpPr>
        <p:grpSpPr>
          <a:xfrm>
            <a:off x="-6480" y="974880"/>
            <a:ext cx="9156960" cy="85680"/>
            <a:chOff x="-6480" y="974880"/>
            <a:chExt cx="9156960" cy="85680"/>
          </a:xfrm>
        </p:grpSpPr>
        <p:pic>
          <p:nvPicPr>
            <p:cNvPr id="107" name="Rectangle 16" descr=""/>
            <p:cNvPicPr/>
            <p:nvPr/>
          </p:nvPicPr>
          <p:blipFill>
            <a:blip r:embed="rId3"/>
            <a:stretch/>
          </p:blipFill>
          <p:spPr>
            <a:xfrm>
              <a:off x="-6480" y="9748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98100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Content Placeholder 2"/>
          <p:cNvSpPr/>
          <p:nvPr/>
        </p:nvSpPr>
        <p:spPr>
          <a:xfrm>
            <a:off x="500040" y="1071720"/>
            <a:ext cx="8501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357120" y="0"/>
            <a:ext cx="80503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4"/>
          <a:stretch/>
        </p:blipFill>
        <p:spPr>
          <a:xfrm>
            <a:off x="8101080" y="4428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ftr" idx="4"/>
          </p:nvPr>
        </p:nvSpPr>
        <p:spPr>
          <a:xfrm>
            <a:off x="307152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jordaninvestme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0"/>
          <p:cNvSpPr/>
          <p:nvPr/>
        </p:nvSpPr>
        <p:spPr>
          <a:xfrm>
            <a:off x="969840" y="3240"/>
            <a:ext cx="2349720" cy="6858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9"/>
          <p:cNvSpPr/>
          <p:nvPr/>
        </p:nvSpPr>
        <p:spPr>
          <a:xfrm>
            <a:off x="7920" y="0"/>
            <a:ext cx="9136080" cy="6858000"/>
          </a:xfrm>
          <a:prstGeom prst="rect">
            <a:avLst/>
          </a:prstGeom>
          <a:solidFill>
            <a:srgbClr val="e8d19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8423280" y="0"/>
            <a:ext cx="720720" cy="6858000"/>
          </a:xfrm>
          <a:prstGeom prst="rect">
            <a:avLst/>
          </a:prstGeom>
          <a:solidFill>
            <a:srgbClr val="ffff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Rectangle 15"/>
          <p:cNvGrpSpPr/>
          <p:nvPr/>
        </p:nvGrpSpPr>
        <p:grpSpPr>
          <a:xfrm>
            <a:off x="0" y="6424560"/>
            <a:ext cx="9150480" cy="300240"/>
            <a:chOff x="0" y="6424560"/>
            <a:chExt cx="9150480" cy="300240"/>
          </a:xfrm>
        </p:grpSpPr>
        <p:pic>
          <p:nvPicPr>
            <p:cNvPr id="15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6424560"/>
              <a:ext cx="915048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920" y="6429240"/>
              <a:ext cx="9136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Rectangle 16"/>
          <p:cNvGrpSpPr/>
          <p:nvPr/>
        </p:nvGrpSpPr>
        <p:grpSpPr>
          <a:xfrm>
            <a:off x="-6480" y="974880"/>
            <a:ext cx="9156960" cy="85680"/>
            <a:chOff x="-6480" y="974880"/>
            <a:chExt cx="9156960" cy="85680"/>
          </a:xfrm>
        </p:grpSpPr>
        <p:pic>
          <p:nvPicPr>
            <p:cNvPr id="158" name="Rectangle 16" descr=""/>
            <p:cNvPicPr/>
            <p:nvPr/>
          </p:nvPicPr>
          <p:blipFill>
            <a:blip r:embed="rId3"/>
            <a:stretch/>
          </p:blipFill>
          <p:spPr>
            <a:xfrm>
              <a:off x="-6480" y="9748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0" y="98100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Content Placeholder 2"/>
          <p:cNvSpPr/>
          <p:nvPr/>
        </p:nvSpPr>
        <p:spPr>
          <a:xfrm>
            <a:off x="500040" y="1071720"/>
            <a:ext cx="8501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tle 1"/>
          <p:cNvSpPr/>
          <p:nvPr/>
        </p:nvSpPr>
        <p:spPr>
          <a:xfrm>
            <a:off x="357120" y="0"/>
            <a:ext cx="80503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8101080" y="44280"/>
            <a:ext cx="96840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10"/>
          <p:cNvSpPr/>
          <p:nvPr/>
        </p:nvSpPr>
        <p:spPr>
          <a:xfrm>
            <a:off x="969840" y="3240"/>
            <a:ext cx="2349720" cy="6858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9"/>
          <p:cNvSpPr/>
          <p:nvPr/>
        </p:nvSpPr>
        <p:spPr>
          <a:xfrm>
            <a:off x="7920" y="0"/>
            <a:ext cx="9136080" cy="6858000"/>
          </a:xfrm>
          <a:prstGeom prst="rect">
            <a:avLst/>
          </a:prstGeom>
          <a:solidFill>
            <a:srgbClr val="e8d19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2"/>
          <p:cNvSpPr/>
          <p:nvPr/>
        </p:nvSpPr>
        <p:spPr>
          <a:xfrm>
            <a:off x="8423280" y="0"/>
            <a:ext cx="720720" cy="6858000"/>
          </a:xfrm>
          <a:prstGeom prst="rect">
            <a:avLst/>
          </a:prstGeom>
          <a:solidFill>
            <a:srgbClr val="ffff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Rectangle 15"/>
          <p:cNvGrpSpPr/>
          <p:nvPr/>
        </p:nvGrpSpPr>
        <p:grpSpPr>
          <a:xfrm>
            <a:off x="0" y="6424560"/>
            <a:ext cx="9150480" cy="300240"/>
            <a:chOff x="0" y="6424560"/>
            <a:chExt cx="9150480" cy="300240"/>
          </a:xfrm>
        </p:grpSpPr>
        <p:pic>
          <p:nvPicPr>
            <p:cNvPr id="203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6424560"/>
              <a:ext cx="915048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920" y="6429240"/>
              <a:ext cx="9136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ectangle 16"/>
          <p:cNvGrpSpPr/>
          <p:nvPr/>
        </p:nvGrpSpPr>
        <p:grpSpPr>
          <a:xfrm>
            <a:off x="-6480" y="974880"/>
            <a:ext cx="9156960" cy="85680"/>
            <a:chOff x="-6480" y="974880"/>
            <a:chExt cx="9156960" cy="85680"/>
          </a:xfrm>
        </p:grpSpPr>
        <p:pic>
          <p:nvPicPr>
            <p:cNvPr id="206" name="Rectangle 16" descr=""/>
            <p:cNvPicPr/>
            <p:nvPr/>
          </p:nvPicPr>
          <p:blipFill>
            <a:blip r:embed="rId3"/>
            <a:stretch/>
          </p:blipFill>
          <p:spPr>
            <a:xfrm>
              <a:off x="-6480" y="9748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98100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Content Placeholder 2"/>
          <p:cNvSpPr/>
          <p:nvPr/>
        </p:nvSpPr>
        <p:spPr>
          <a:xfrm>
            <a:off x="500040" y="1071720"/>
            <a:ext cx="8501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tle 1"/>
          <p:cNvSpPr/>
          <p:nvPr/>
        </p:nvSpPr>
        <p:spPr>
          <a:xfrm>
            <a:off x="357120" y="0"/>
            <a:ext cx="80503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4"/>
          <a:stretch/>
        </p:blipFill>
        <p:spPr>
          <a:xfrm>
            <a:off x="8101080" y="4428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ftr" idx="5"/>
          </p:nvPr>
        </p:nvSpPr>
        <p:spPr>
          <a:xfrm>
            <a:off x="1928520" y="6429240"/>
            <a:ext cx="4429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jordaninvestm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ldNum" idx="6"/>
          </p:nvPr>
        </p:nvSpPr>
        <p:spPr>
          <a:xfrm>
            <a:off x="6469200" y="6384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0006-1279-4416-942B-7D31E82C1D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0"/>
          <p:cNvSpPr/>
          <p:nvPr/>
        </p:nvSpPr>
        <p:spPr>
          <a:xfrm>
            <a:off x="969840" y="3240"/>
            <a:ext cx="2349720" cy="6858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9"/>
          <p:cNvSpPr/>
          <p:nvPr/>
        </p:nvSpPr>
        <p:spPr>
          <a:xfrm>
            <a:off x="7920" y="0"/>
            <a:ext cx="9136080" cy="6858000"/>
          </a:xfrm>
          <a:prstGeom prst="rect">
            <a:avLst/>
          </a:prstGeom>
          <a:solidFill>
            <a:srgbClr val="e8d19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2"/>
          <p:cNvSpPr/>
          <p:nvPr/>
        </p:nvSpPr>
        <p:spPr>
          <a:xfrm>
            <a:off x="8423280" y="0"/>
            <a:ext cx="720720" cy="6858000"/>
          </a:xfrm>
          <a:prstGeom prst="rect">
            <a:avLst/>
          </a:prstGeom>
          <a:solidFill>
            <a:srgbClr val="ffff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Rectangle 15"/>
          <p:cNvGrpSpPr/>
          <p:nvPr/>
        </p:nvGrpSpPr>
        <p:grpSpPr>
          <a:xfrm>
            <a:off x="0" y="6424560"/>
            <a:ext cx="9150480" cy="300240"/>
            <a:chOff x="0" y="6424560"/>
            <a:chExt cx="9150480" cy="300240"/>
          </a:xfrm>
        </p:grpSpPr>
        <p:pic>
          <p:nvPicPr>
            <p:cNvPr id="253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6424560"/>
              <a:ext cx="915048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7920" y="6429240"/>
              <a:ext cx="9136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Rectangle 16"/>
          <p:cNvGrpSpPr/>
          <p:nvPr/>
        </p:nvGrpSpPr>
        <p:grpSpPr>
          <a:xfrm>
            <a:off x="-6480" y="974880"/>
            <a:ext cx="9156960" cy="85680"/>
            <a:chOff x="-6480" y="974880"/>
            <a:chExt cx="9156960" cy="85680"/>
          </a:xfrm>
        </p:grpSpPr>
        <p:pic>
          <p:nvPicPr>
            <p:cNvPr id="256" name="Rectangle 16" descr=""/>
            <p:cNvPicPr/>
            <p:nvPr/>
          </p:nvPicPr>
          <p:blipFill>
            <a:blip r:embed="rId3"/>
            <a:stretch/>
          </p:blipFill>
          <p:spPr>
            <a:xfrm>
              <a:off x="-6480" y="9748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0" y="98100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Content Placeholder 2"/>
          <p:cNvSpPr/>
          <p:nvPr/>
        </p:nvSpPr>
        <p:spPr>
          <a:xfrm>
            <a:off x="500040" y="1071720"/>
            <a:ext cx="8501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le 1"/>
          <p:cNvSpPr/>
          <p:nvPr/>
        </p:nvSpPr>
        <p:spPr>
          <a:xfrm>
            <a:off x="357120" y="0"/>
            <a:ext cx="80503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4"/>
          <a:stretch/>
        </p:blipFill>
        <p:spPr>
          <a:xfrm>
            <a:off x="8101080" y="4428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dt" idx="7"/>
          </p:nvPr>
        </p:nvSpPr>
        <p:spPr>
          <a:xfrm>
            <a:off x="746280" y="6401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D231-92E4-4C04-B2F8-649DC164E96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8"/>
          </p:nvPr>
        </p:nvSpPr>
        <p:spPr>
          <a:xfrm>
            <a:off x="1928520" y="6429240"/>
            <a:ext cx="4429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jordaninvestm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9"/>
          </p:nvPr>
        </p:nvSpPr>
        <p:spPr>
          <a:xfrm>
            <a:off x="6469200" y="6384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339F-5DAB-4499-84BE-5F359A89A7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0"/>
          <p:cNvSpPr/>
          <p:nvPr/>
        </p:nvSpPr>
        <p:spPr>
          <a:xfrm>
            <a:off x="969840" y="3240"/>
            <a:ext cx="2349720" cy="6858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9"/>
          <p:cNvSpPr/>
          <p:nvPr/>
        </p:nvSpPr>
        <p:spPr>
          <a:xfrm>
            <a:off x="7920" y="0"/>
            <a:ext cx="9136080" cy="6858000"/>
          </a:xfrm>
          <a:prstGeom prst="rect">
            <a:avLst/>
          </a:prstGeom>
          <a:solidFill>
            <a:srgbClr val="e8d19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2"/>
          <p:cNvSpPr/>
          <p:nvPr/>
        </p:nvSpPr>
        <p:spPr>
          <a:xfrm>
            <a:off x="8423280" y="0"/>
            <a:ext cx="720720" cy="6858000"/>
          </a:xfrm>
          <a:prstGeom prst="rect">
            <a:avLst/>
          </a:prstGeom>
          <a:solidFill>
            <a:srgbClr val="ffff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Rectangle 15"/>
          <p:cNvGrpSpPr/>
          <p:nvPr/>
        </p:nvGrpSpPr>
        <p:grpSpPr>
          <a:xfrm>
            <a:off x="0" y="6424560"/>
            <a:ext cx="9150480" cy="300240"/>
            <a:chOff x="0" y="6424560"/>
            <a:chExt cx="9150480" cy="300240"/>
          </a:xfrm>
        </p:grpSpPr>
        <p:pic>
          <p:nvPicPr>
            <p:cNvPr id="304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6424560"/>
              <a:ext cx="915048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920" y="6429240"/>
              <a:ext cx="9136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Rectangle 16"/>
          <p:cNvGrpSpPr/>
          <p:nvPr/>
        </p:nvGrpSpPr>
        <p:grpSpPr>
          <a:xfrm>
            <a:off x="-6480" y="974880"/>
            <a:ext cx="9156960" cy="85680"/>
            <a:chOff x="-6480" y="974880"/>
            <a:chExt cx="9156960" cy="85680"/>
          </a:xfrm>
        </p:grpSpPr>
        <p:pic>
          <p:nvPicPr>
            <p:cNvPr id="307" name="Rectangle 16" descr=""/>
            <p:cNvPicPr/>
            <p:nvPr/>
          </p:nvPicPr>
          <p:blipFill>
            <a:blip r:embed="rId3"/>
            <a:stretch/>
          </p:blipFill>
          <p:spPr>
            <a:xfrm>
              <a:off x="-6480" y="9748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0" y="98100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Content Placeholder 2"/>
          <p:cNvSpPr/>
          <p:nvPr/>
        </p:nvSpPr>
        <p:spPr>
          <a:xfrm>
            <a:off x="500040" y="1071720"/>
            <a:ext cx="8501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357120" y="0"/>
            <a:ext cx="80503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9" descr=""/>
          <p:cNvPicPr/>
          <p:nvPr/>
        </p:nvPicPr>
        <p:blipFill>
          <a:blip r:embed="rId4"/>
          <a:stretch/>
        </p:blipFill>
        <p:spPr>
          <a:xfrm>
            <a:off x="8101080" y="4428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0"/>
          </p:nvPr>
        </p:nvSpPr>
        <p:spPr>
          <a:xfrm>
            <a:off x="746280" y="6401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AD5A-7E2B-433F-8BE1-CDC102A9B18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11"/>
          </p:nvPr>
        </p:nvSpPr>
        <p:spPr>
          <a:xfrm>
            <a:off x="1928520" y="6429240"/>
            <a:ext cx="4429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jordaninvestm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12"/>
          </p:nvPr>
        </p:nvSpPr>
        <p:spPr>
          <a:xfrm>
            <a:off x="6469200" y="6384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0BB6-2738-4695-8B5A-CA2D0A3DEC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0"/>
          <p:cNvSpPr/>
          <p:nvPr/>
        </p:nvSpPr>
        <p:spPr>
          <a:xfrm>
            <a:off x="969840" y="3240"/>
            <a:ext cx="2349720" cy="6858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9"/>
          <p:cNvSpPr/>
          <p:nvPr/>
        </p:nvSpPr>
        <p:spPr>
          <a:xfrm>
            <a:off x="7920" y="0"/>
            <a:ext cx="9136080" cy="6858000"/>
          </a:xfrm>
          <a:prstGeom prst="rect">
            <a:avLst/>
          </a:prstGeom>
          <a:solidFill>
            <a:srgbClr val="e8d19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2"/>
          <p:cNvSpPr/>
          <p:nvPr/>
        </p:nvSpPr>
        <p:spPr>
          <a:xfrm>
            <a:off x="8423280" y="0"/>
            <a:ext cx="720720" cy="6858000"/>
          </a:xfrm>
          <a:prstGeom prst="rect">
            <a:avLst/>
          </a:prstGeom>
          <a:solidFill>
            <a:srgbClr val="ffff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Rectangle 15"/>
          <p:cNvGrpSpPr/>
          <p:nvPr/>
        </p:nvGrpSpPr>
        <p:grpSpPr>
          <a:xfrm>
            <a:off x="0" y="6424560"/>
            <a:ext cx="9150480" cy="300240"/>
            <a:chOff x="0" y="6424560"/>
            <a:chExt cx="9150480" cy="300240"/>
          </a:xfrm>
        </p:grpSpPr>
        <p:pic>
          <p:nvPicPr>
            <p:cNvPr id="35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6424560"/>
              <a:ext cx="915048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920" y="6429240"/>
              <a:ext cx="9136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ectangle 16"/>
          <p:cNvGrpSpPr/>
          <p:nvPr/>
        </p:nvGrpSpPr>
        <p:grpSpPr>
          <a:xfrm>
            <a:off x="-6480" y="974880"/>
            <a:ext cx="9156960" cy="85680"/>
            <a:chOff x="-6480" y="974880"/>
            <a:chExt cx="9156960" cy="85680"/>
          </a:xfrm>
        </p:grpSpPr>
        <p:pic>
          <p:nvPicPr>
            <p:cNvPr id="358" name="Rectangle 16" descr=""/>
            <p:cNvPicPr/>
            <p:nvPr/>
          </p:nvPicPr>
          <p:blipFill>
            <a:blip r:embed="rId3"/>
            <a:stretch/>
          </p:blipFill>
          <p:spPr>
            <a:xfrm>
              <a:off x="-6480" y="9748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0" y="98100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Content Placeholder 2"/>
          <p:cNvSpPr/>
          <p:nvPr/>
        </p:nvSpPr>
        <p:spPr>
          <a:xfrm>
            <a:off x="500040" y="1071720"/>
            <a:ext cx="8501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itle 1"/>
          <p:cNvSpPr/>
          <p:nvPr/>
        </p:nvSpPr>
        <p:spPr>
          <a:xfrm>
            <a:off x="357120" y="0"/>
            <a:ext cx="80503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9" descr=""/>
          <p:cNvPicPr/>
          <p:nvPr/>
        </p:nvPicPr>
        <p:blipFill>
          <a:blip r:embed="rId4"/>
          <a:stretch/>
        </p:blipFill>
        <p:spPr>
          <a:xfrm>
            <a:off x="8101080" y="4428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dt" idx="13"/>
          </p:nvPr>
        </p:nvSpPr>
        <p:spPr>
          <a:xfrm>
            <a:off x="746280" y="6401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F853-3285-4B41-BB57-B66A14C2F3D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ftr" idx="14"/>
          </p:nvPr>
        </p:nvSpPr>
        <p:spPr>
          <a:xfrm>
            <a:off x="1928520" y="6429240"/>
            <a:ext cx="4429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jordaninvestm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sldNum" idx="15"/>
          </p:nvPr>
        </p:nvSpPr>
        <p:spPr>
          <a:xfrm>
            <a:off x="6469200" y="6384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B7EB-84D4-40FA-BCE0-89B91B62FA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矩形 10"/>
          <p:cNvSpPr/>
          <p:nvPr/>
        </p:nvSpPr>
        <p:spPr>
          <a:xfrm>
            <a:off x="969840" y="3240"/>
            <a:ext cx="2349720" cy="6858000"/>
          </a:xfrm>
          <a:prstGeom prst="rect">
            <a:avLst/>
          </a:prstGeom>
          <a:solidFill>
            <a:srgbClr val="ffff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9"/>
          <p:cNvSpPr/>
          <p:nvPr/>
        </p:nvSpPr>
        <p:spPr>
          <a:xfrm>
            <a:off x="7920" y="0"/>
            <a:ext cx="9136080" cy="6858000"/>
          </a:xfrm>
          <a:prstGeom prst="rect">
            <a:avLst/>
          </a:prstGeom>
          <a:solidFill>
            <a:srgbClr val="e8d19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2"/>
          <p:cNvSpPr/>
          <p:nvPr/>
        </p:nvSpPr>
        <p:spPr>
          <a:xfrm>
            <a:off x="8423280" y="0"/>
            <a:ext cx="720720" cy="6858000"/>
          </a:xfrm>
          <a:prstGeom prst="rect">
            <a:avLst/>
          </a:prstGeom>
          <a:solidFill>
            <a:srgbClr val="ffff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Rectangle 15"/>
          <p:cNvGrpSpPr/>
          <p:nvPr/>
        </p:nvGrpSpPr>
        <p:grpSpPr>
          <a:xfrm>
            <a:off x="0" y="6424560"/>
            <a:ext cx="9150480" cy="300240"/>
            <a:chOff x="0" y="6424560"/>
            <a:chExt cx="9150480" cy="300240"/>
          </a:xfrm>
        </p:grpSpPr>
        <p:pic>
          <p:nvPicPr>
            <p:cNvPr id="406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6424560"/>
              <a:ext cx="9150480" cy="3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7920" y="6429240"/>
              <a:ext cx="9136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Rectangle 16"/>
          <p:cNvGrpSpPr/>
          <p:nvPr/>
        </p:nvGrpSpPr>
        <p:grpSpPr>
          <a:xfrm>
            <a:off x="-6480" y="974880"/>
            <a:ext cx="9156960" cy="85680"/>
            <a:chOff x="-6480" y="974880"/>
            <a:chExt cx="9156960" cy="85680"/>
          </a:xfrm>
        </p:grpSpPr>
        <p:pic>
          <p:nvPicPr>
            <p:cNvPr id="409" name="Rectangle 16" descr=""/>
            <p:cNvPicPr/>
            <p:nvPr/>
          </p:nvPicPr>
          <p:blipFill>
            <a:blip r:embed="rId3"/>
            <a:stretch/>
          </p:blipFill>
          <p:spPr>
            <a:xfrm>
              <a:off x="-6480" y="9748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0" y="981000"/>
              <a:ext cx="91440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Content Placeholder 2"/>
          <p:cNvSpPr/>
          <p:nvPr/>
        </p:nvSpPr>
        <p:spPr>
          <a:xfrm>
            <a:off x="500040" y="1071720"/>
            <a:ext cx="850104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itle 1"/>
          <p:cNvSpPr/>
          <p:nvPr/>
        </p:nvSpPr>
        <p:spPr>
          <a:xfrm>
            <a:off x="357120" y="0"/>
            <a:ext cx="80503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9" descr=""/>
          <p:cNvPicPr/>
          <p:nvPr/>
        </p:nvPicPr>
        <p:blipFill>
          <a:blip r:embed="rId4"/>
          <a:stretch/>
        </p:blipFill>
        <p:spPr>
          <a:xfrm>
            <a:off x="8101080" y="4428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dt" idx="16"/>
          </p:nvPr>
        </p:nvSpPr>
        <p:spPr>
          <a:xfrm>
            <a:off x="746280" y="6401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1F10-CD53-4AD0-8ED8-170F35E921E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ftr" idx="17"/>
          </p:nvPr>
        </p:nvSpPr>
        <p:spPr>
          <a:xfrm>
            <a:off x="1928520" y="6429240"/>
            <a:ext cx="44290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ww.jordaninvestm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18"/>
          </p:nvPr>
        </p:nvSpPr>
        <p:spPr>
          <a:xfrm>
            <a:off x="6469200" y="6384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62B7-DC86-4435-887D-B6CCE6F477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image" Target="../media/image38.pn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2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Market Entry and International Investment Opportunities in Jordan</a:t>
            </a:r>
            <a:br>
              <a:rPr sz="2400"/>
            </a:br>
            <a:br>
              <a:rPr sz="2400"/>
            </a:b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Georgia"/>
              </a:rPr>
              <a:t>Dr. Montaser Al-Oklah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Chief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Jordan Investment Commission</a:t>
            </a:r>
            <a:br>
              <a:rPr sz="2400"/>
            </a:b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Picture 2" descr="http://coralbay.jo/wp-content/uploads/2012/08/amman1.jpg"/>
          <p:cNvPicPr/>
          <p:nvPr/>
        </p:nvPicPr>
        <p:blipFill>
          <a:blip r:embed="rId1"/>
          <a:stretch/>
        </p:blipFill>
        <p:spPr>
          <a:xfrm>
            <a:off x="208080" y="5005440"/>
            <a:ext cx="2101680" cy="27795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http://www.atlastours.net/jordan/al_deir.jpg"/>
          <p:cNvPicPr/>
          <p:nvPr/>
        </p:nvPicPr>
        <p:blipFill>
          <a:blip r:embed="rId2"/>
          <a:stretch/>
        </p:blipFill>
        <p:spPr>
          <a:xfrm>
            <a:off x="2414520" y="5005440"/>
            <a:ext cx="1955880" cy="27795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http://upload.wikimedia.org/wikipedia/commons/a/a1/ABDALI-Sunrise.JPG"/>
          <p:cNvPicPr/>
          <p:nvPr/>
        </p:nvPicPr>
        <p:blipFill>
          <a:blip r:embed="rId3"/>
          <a:stretch/>
        </p:blipFill>
        <p:spPr>
          <a:xfrm>
            <a:off x="6834240" y="5005440"/>
            <a:ext cx="2181240" cy="27795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http://aceee.org/files/image/sectors/industry.jpg"/>
          <p:cNvPicPr/>
          <p:nvPr/>
        </p:nvPicPr>
        <p:blipFill>
          <a:blip r:embed="rId4"/>
          <a:stretch/>
        </p:blipFill>
        <p:spPr>
          <a:xfrm>
            <a:off x="4475160" y="5005440"/>
            <a:ext cx="225432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Content Placeholder 11" descr=""/>
          <p:cNvPicPr/>
          <p:nvPr/>
        </p:nvPicPr>
        <p:blipFill>
          <a:blip r:embed="rId1"/>
          <a:stretch/>
        </p:blipFill>
        <p:spPr>
          <a:xfrm>
            <a:off x="695160" y="1109520"/>
            <a:ext cx="8120160" cy="519444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050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rtl="1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Georgia"/>
                <a:ea typeface="Tahoma"/>
              </a:rPr>
              <a:t>Development Zon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7868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2960"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  <a:ea typeface="Minion Pro"/>
              </a:rPr>
              <a:t>Success Stori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28760" y="1071720"/>
            <a:ext cx="850104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On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f the world’s leading bank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3600" indent="-363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Two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f the region’s best international pharmaceutical companies with over   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$1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billion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turnov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3600" indent="-363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Two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f the top global companies with major regional acquisitions in IC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3600" indent="-363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Thre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f the leading telecom operators in the world &amp; the reg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3600" indent="-363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leading home-grown regional FMCG company with a super brand awar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3600" indent="-363600" algn="ctr">
              <a:spcBef>
                <a:spcPts val="400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All of them have chosen to operate in Jorda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5" name="Picture 2" descr="http://molz.files.wordpress.com/2009/06/orange.jpg"/>
          <p:cNvPicPr/>
          <p:nvPr/>
        </p:nvPicPr>
        <p:blipFill>
          <a:blip r:embed="rId1"/>
          <a:stretch/>
        </p:blipFill>
        <p:spPr>
          <a:xfrm>
            <a:off x="7711920" y="4200480"/>
            <a:ext cx="798840" cy="736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http://www.mediabistro.com/fishbowlny/original/yahoo_logo.jpg"/>
          <p:cNvPicPr/>
          <p:nvPr/>
        </p:nvPicPr>
        <p:blipFill>
          <a:blip r:embed="rId2"/>
          <a:stretch/>
        </p:blipFill>
        <p:spPr>
          <a:xfrm>
            <a:off x="2066760" y="4492800"/>
            <a:ext cx="804960" cy="6886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" descr="http://www.realestate.kz/eng/pages/images/about/microsoft.jpg"/>
          <p:cNvPicPr/>
          <p:nvPr/>
        </p:nvPicPr>
        <p:blipFill>
          <a:blip r:embed="rId3"/>
          <a:stretch/>
        </p:blipFill>
        <p:spPr>
          <a:xfrm>
            <a:off x="566640" y="4352760"/>
            <a:ext cx="1096920" cy="8780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8" descr="Screen shot 2010-09-30 at 17.27.34.png"/>
          <p:cNvPicPr/>
          <p:nvPr/>
        </p:nvPicPr>
        <p:blipFill>
          <a:blip r:embed="rId4"/>
          <a:stretch/>
        </p:blipFill>
        <p:spPr>
          <a:xfrm>
            <a:off x="5643720" y="4429080"/>
            <a:ext cx="1376280" cy="53172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2" descr="http://www.ameinfo.com/images/news/8/54258-hikmalogo.jpg"/>
          <p:cNvPicPr/>
          <p:nvPr/>
        </p:nvPicPr>
        <p:blipFill>
          <a:blip r:embed="rId5"/>
          <a:stretch/>
        </p:blipFill>
        <p:spPr>
          <a:xfrm>
            <a:off x="2928960" y="4286160"/>
            <a:ext cx="1600200" cy="104796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4" descr="http://www.nutridar.com/Site/mritems/Images/2007/12/28/10.jpg"/>
          <p:cNvPicPr/>
          <p:nvPr/>
        </p:nvPicPr>
        <p:blipFill>
          <a:blip r:embed="rId6"/>
          <a:stretch/>
        </p:blipFill>
        <p:spPr>
          <a:xfrm>
            <a:off x="714240" y="5429160"/>
            <a:ext cx="1447920" cy="5428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" descr="http://www.microsoft.com/casestudies/ServeLogoResource.aspx?4000006882"/>
          <p:cNvPicPr/>
          <p:nvPr/>
        </p:nvPicPr>
        <p:blipFill>
          <a:blip r:embed="rId7"/>
          <a:stretch/>
        </p:blipFill>
        <p:spPr>
          <a:xfrm>
            <a:off x="5500800" y="500076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8" descr="http://www.aices.org/images/MemberLogos/aramex.gif"/>
          <p:cNvPicPr/>
          <p:nvPr/>
        </p:nvPicPr>
        <p:blipFill>
          <a:blip r:embed="rId8"/>
          <a:stretch/>
        </p:blipFill>
        <p:spPr>
          <a:xfrm>
            <a:off x="7000920" y="5286240"/>
            <a:ext cx="1809720" cy="5907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10" descr="http://www.btflive.net/news/files/Arab-Bank-Group-Logo.jpg"/>
          <p:cNvPicPr/>
          <p:nvPr/>
        </p:nvPicPr>
        <p:blipFill>
          <a:blip r:embed="rId9"/>
          <a:stretch/>
        </p:blipFill>
        <p:spPr>
          <a:xfrm>
            <a:off x="2928960" y="5286240"/>
            <a:ext cx="18828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050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rtl="1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  <a:ea typeface="Minion Pro"/>
              </a:rPr>
              <a:t>Invest in Jorda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4360" y="1341360"/>
            <a:ext cx="7632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ordan offers a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safe investment environment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upported by a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transparent regulatory framework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nd an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attractive incentive structur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urthermore, you have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strong and willing private sector partner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at will support your entry into the Jordanian and regional market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500040" y="156348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1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ank you for taking the time to view the presenta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lease do not hesitate to contact us for any further information or any clarificatio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Georgia"/>
              </a:rPr>
              <a:t>Tel: +962-6 560 8400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12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Georgia"/>
              </a:rPr>
              <a:t>info@jic.gov.j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1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www.jic.gov.j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12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12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12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250920" y="1412640"/>
            <a:ext cx="496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r foreign companies that enter emerging markets, there are valuable connections to: in-country markets and regional trade networks; to a competitive workforce; to important knowledge about regional cultures and customers. Such businesses find significant trade and investment opportunities – especially in economies like Jordan’s, which are on a path of modernization and growth… and which are regional gateways… in our case, to the 350 million people of the Arab World.”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His Majesty King Abdullah II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50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rtl="1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Picture 5" descr=""/>
          <p:cNvPicPr/>
          <p:nvPr/>
        </p:nvPicPr>
        <p:blipFill>
          <a:blip r:embed="rId1"/>
          <a:stretch/>
        </p:blipFill>
        <p:spPr>
          <a:xfrm>
            <a:off x="5772240" y="1335240"/>
            <a:ext cx="3170160" cy="73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8050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algn="ctr" rtl="1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ethink Market Acces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500040" y="1285920"/>
            <a:ext cx="4572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nk of investing in Jordan as your road to success in emerging, high growth Middle East economi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ordan is a land of opportunity located in the heart of MENA that offers a skilled workforce, a high quality of living and competitive business advantag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638640" y="54291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Minion Pro"/>
              </a:rPr>
              <a:t>Take advantage. Turn to Jord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2" descr="http://www.ellecanada.com/img/photos/biz/ELLECanada/Living/Travel/jordan.jpg"/>
          <p:cNvPicPr/>
          <p:nvPr/>
        </p:nvPicPr>
        <p:blipFill>
          <a:blip r:embed="rId1"/>
          <a:stretch/>
        </p:blipFill>
        <p:spPr>
          <a:xfrm>
            <a:off x="5767560" y="1316160"/>
            <a:ext cx="30906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050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rtl="1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Why Jordan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Jordan presents clear enablers to help your business grow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Content Placeholder 8" descr=""/>
          <p:cNvPicPr/>
          <p:nvPr/>
        </p:nvPicPr>
        <p:blipFill>
          <a:blip r:embed="rId1"/>
          <a:stretch/>
        </p:blipFill>
        <p:spPr>
          <a:xfrm>
            <a:off x="-42840" y="974880"/>
            <a:ext cx="9156600" cy="48225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" descr="http://coralbay.jo/wp-content/uploads/2012/08/amman1.jpg"/>
          <p:cNvPicPr/>
          <p:nvPr/>
        </p:nvPicPr>
        <p:blipFill>
          <a:blip r:embed="rId2"/>
          <a:srcRect l="2847" t="4134" r="24120" b="283"/>
          <a:stretch/>
        </p:blipFill>
        <p:spPr>
          <a:xfrm>
            <a:off x="1717560" y="5791320"/>
            <a:ext cx="858960" cy="609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2" descr="http://www.atlastours.net/jordan/al_deir.jpg"/>
          <p:cNvPicPr/>
          <p:nvPr/>
        </p:nvPicPr>
        <p:blipFill>
          <a:blip r:embed="rId3"/>
          <a:srcRect l="10017" t="0" r="22083" b="8554"/>
          <a:stretch/>
        </p:blipFill>
        <p:spPr>
          <a:xfrm>
            <a:off x="3376440" y="5791320"/>
            <a:ext cx="738360" cy="6094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http://upload.wikimedia.org/wikipedia/commons/a/a1/ABDALI-Sunrise.JPG"/>
          <p:cNvPicPr/>
          <p:nvPr/>
        </p:nvPicPr>
        <p:blipFill>
          <a:blip r:embed="rId4"/>
          <a:srcRect l="25266" t="23885" r="23460" b="14715"/>
          <a:stretch/>
        </p:blipFill>
        <p:spPr>
          <a:xfrm>
            <a:off x="2576520" y="5791320"/>
            <a:ext cx="798480" cy="60948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6" descr="http://upload.wikimedia.org/wikipedia/commons/c/c5/Amman_City_Scape.jpg"/>
          <p:cNvPicPr/>
          <p:nvPr/>
        </p:nvPicPr>
        <p:blipFill>
          <a:blip r:embed="rId5"/>
          <a:srcRect l="28703" t="0" r="4921" b="21053"/>
          <a:stretch/>
        </p:blipFill>
        <p:spPr>
          <a:xfrm>
            <a:off x="5176800" y="5791320"/>
            <a:ext cx="932040" cy="6094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http://upload.wikimedia.org/wikipedia/commons/a/af/Gemasolar.jpg"/>
          <p:cNvPicPr/>
          <p:nvPr/>
        </p:nvPicPr>
        <p:blipFill>
          <a:blip r:embed="rId6"/>
          <a:srcRect l="26408" t="0" r="21148" b="18900"/>
          <a:stretch/>
        </p:blipFill>
        <p:spPr>
          <a:xfrm>
            <a:off x="4114800" y="5791320"/>
            <a:ext cx="1066680" cy="6094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" descr="http://al-shorfa.com/shared/images/2011/11/15/jordan-energy-wind-650_416.jpg"/>
          <p:cNvPicPr/>
          <p:nvPr/>
        </p:nvPicPr>
        <p:blipFill>
          <a:blip r:embed="rId7"/>
          <a:srcRect l="0" t="0" r="2441" b="0"/>
          <a:stretch/>
        </p:blipFill>
        <p:spPr>
          <a:xfrm>
            <a:off x="669960" y="5791320"/>
            <a:ext cx="1049400" cy="6094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http://www.triptojordan.com/sites/all/files/Images/Hotels/Dead%20Sea/5%20stars/Dead%20Sea%20Marriott%20Hotel.jpg"/>
          <p:cNvPicPr/>
          <p:nvPr/>
        </p:nvPicPr>
        <p:blipFill>
          <a:blip r:embed="rId8"/>
          <a:stretch/>
        </p:blipFill>
        <p:spPr>
          <a:xfrm>
            <a:off x="7054920" y="5791320"/>
            <a:ext cx="1022400" cy="6094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http://youinjordan.com/wp-content/uploads/2012/05/jpg"/>
          <p:cNvPicPr/>
          <p:nvPr/>
        </p:nvPicPr>
        <p:blipFill>
          <a:blip r:embed="rId9"/>
          <a:stretch/>
        </p:blipFill>
        <p:spPr>
          <a:xfrm>
            <a:off x="8077320" y="5791320"/>
            <a:ext cx="1066680" cy="6094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8" descr="http://www.elin.jo/upload/fck/Image/Mount%20Nebo%20Jordan/JordanMtNebo_gr.jpg"/>
          <p:cNvPicPr/>
          <p:nvPr/>
        </p:nvPicPr>
        <p:blipFill>
          <a:blip r:embed="rId10"/>
          <a:srcRect l="5729" t="6882" r="8570" b="11501"/>
          <a:stretch/>
        </p:blipFill>
        <p:spPr>
          <a:xfrm>
            <a:off x="0" y="5791320"/>
            <a:ext cx="674640" cy="6094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" descr="http://cdn.roughguides.com/wp-content/uploads/2012/10/128039346-1680x460.jpg"/>
          <p:cNvPicPr/>
          <p:nvPr/>
        </p:nvPicPr>
        <p:blipFill>
          <a:blip r:embed="rId11"/>
          <a:srcRect l="14282" t="0" r="13130" b="0"/>
          <a:stretch/>
        </p:blipFill>
        <p:spPr>
          <a:xfrm>
            <a:off x="6102360" y="5791320"/>
            <a:ext cx="954000" cy="6094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 txBox="1"/>
          <p:nvPr/>
        </p:nvSpPr>
        <p:spPr>
          <a:xfrm>
            <a:off x="160200" y="1915920"/>
            <a:ext cx="2035440" cy="380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ccess to over 350 million consumers in the MENA regio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ccess to over 1 billion consumers globally through bilateral and regional free trade agreements with: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USA, Canada, Singapore, and Turkey FTAs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Greater Arab Free Trade Agreement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EU Association Agreement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European Free Trade Agreement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114480" indent="-114480"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gadir Agreement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114480" indent="-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Content Placeholder 2"/>
          <p:cNvSpPr/>
          <p:nvPr/>
        </p:nvSpPr>
        <p:spPr>
          <a:xfrm>
            <a:off x="7020000" y="1930320"/>
            <a:ext cx="2036520" cy="380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Regional and interna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 model of moderation and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Strong anti-corruption and transparency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Free market principles and respect for investor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Reform driven government agenda, particularly in the fields of investment and public private partner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Content Placeholder 2"/>
          <p:cNvSpPr/>
          <p:nvPr/>
        </p:nvSpPr>
        <p:spPr>
          <a:xfrm>
            <a:off x="4788000" y="1916280"/>
            <a:ext cx="2036520" cy="380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Qualified human capi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alented and bilingual gradu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Expenditure on education is 9.7% of government expendi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One of the highest country in the world in terms of engineers, physicians, and nurses per cap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Government programs to fill in the gap between market needs and educational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Content Placeholder 2"/>
          <p:cNvSpPr/>
          <p:nvPr/>
        </p:nvSpPr>
        <p:spPr>
          <a:xfrm>
            <a:off x="2452680" y="1916280"/>
            <a:ext cx="2035080" cy="380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orld class Development Z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Network of roads and railways that connect to the region of over 370 million consu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Modern telecommunications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elecommunications sector fully liberalized since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orld Class international airport and airline, serving over 59 global dest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623880" y="1391760"/>
            <a:ext cx="3608640" cy="472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4b6d2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Calibri"/>
              </a:rPr>
              <a:t>Growing number of FTAs since 1997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Calibri"/>
              </a:rPr>
              <a:t>Member of WTO since 2000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Calibri"/>
              </a:rPr>
              <a:t>117 nationalities in industrial and  service sectors own companies in Jordan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Georgia"/>
                <a:ea typeface="Calibri"/>
              </a:rPr>
              <a:t>49.5% of  shares of publicly listed companies on Amman Stock Exchange are owned by non-Jordanian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981320" y="1389960"/>
            <a:ext cx="3574080" cy="472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4b6d2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Calibri"/>
              </a:rPr>
              <a:t>100% foreign ownership in priority sector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Calibri"/>
              </a:rPr>
              <a:t>Legal Framework that encourages investmen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Calibri"/>
              </a:rPr>
              <a:t>No restrictions on capital transfers and repatriation of profit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Calibri"/>
              </a:rPr>
              <a:t>55 Bilateral  Investment Treaties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Calibri"/>
              </a:rPr>
              <a:t>27 Double Taxation Agreemen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050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Liberal Economy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050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rtl="1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st Growing Reg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00040" y="1071720"/>
            <a:ext cx="850104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370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million is the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2013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stimate of the population of Arab countries*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$3.530 trillion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s the total MENA GDP in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2014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10%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is MENA’s GDP growth for the period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2007–2013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compared to world average of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6%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2.3%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is MENA’s population growth rate vs.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1.2%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the growth of the world population in the same period***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642960" y="5643720"/>
            <a:ext cx="657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phemia UCAS"/>
                <a:ea typeface="Minion Pro"/>
              </a:rPr>
              <a:t>*        The world b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phemia UCAS"/>
                <a:ea typeface="Minion Pro"/>
              </a:rPr>
              <a:t>**       IM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phemia UCAS"/>
                <a:ea typeface="Minion Pro"/>
              </a:rPr>
              <a:t>***     IMF &amp; UN World Population Perspectives Datab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050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rtl="1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ew Investment Law (2014)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500040" y="1071720"/>
            <a:ext cx="850104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organizes the various investment related entities (Jordan Investment Board, Development and Free Zones Commission, and Export Promotion Department)into th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nvestment Commiss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es th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nvestment Counci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chaired by the Prime Minister and with equal representation from the public and private sect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panding the sectors covered within the law to includ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rafts and service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in addition to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dustry; agriculture; hotels; hospitals; entertainment cities; research centers; media production; convention centers; transport, distribution and/or extraction of water, gas and oil derivatives using pipelines; air transport, sea transport and railway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0503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rtl="1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ew Investment Law (2014)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500040" y="1071720"/>
            <a:ext cx="850104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mpowers the One Stop Shop representatives to issue permits and licens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utomatic exemptions (sales tax and custom duties)for goods and services, and on production inputs (for industrial purposes) and fixed asse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ome tax exemptions based on geographic locations of at least 30%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urther incentives in Development Zones and Industrial Estat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tection of investments, permissibility of full foreign ownership, and no restrictions on repatriation of prof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7640" y="-27000"/>
            <a:ext cx="828036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 rtl="1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Development Zones 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Designed to leverage the unique investment characteristics of every region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32" descr="jordan map.png"/>
          <p:cNvPicPr/>
          <p:nvPr/>
        </p:nvPicPr>
        <p:blipFill>
          <a:blip r:embed="rId1"/>
          <a:stretch/>
        </p:blipFill>
        <p:spPr>
          <a:xfrm>
            <a:off x="3152880" y="2038320"/>
            <a:ext cx="3844800" cy="42483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9" descr="logo copy.png"/>
          <p:cNvPicPr/>
          <p:nvPr/>
        </p:nvPicPr>
        <p:blipFill>
          <a:blip r:embed="rId2"/>
          <a:stretch/>
        </p:blipFill>
        <p:spPr>
          <a:xfrm>
            <a:off x="3052800" y="5824440"/>
            <a:ext cx="426960" cy="3715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3" descr="logo copy.png"/>
          <p:cNvPicPr/>
          <p:nvPr/>
        </p:nvPicPr>
        <p:blipFill>
          <a:blip r:embed="rId3"/>
          <a:stretch/>
        </p:blipFill>
        <p:spPr>
          <a:xfrm>
            <a:off x="3695760" y="5181480"/>
            <a:ext cx="428400" cy="370080"/>
          </a:xfrm>
          <a:prstGeom prst="rect">
            <a:avLst/>
          </a:prstGeom>
          <a:ln w="0">
            <a:noFill/>
          </a:ln>
        </p:spPr>
      </p:pic>
      <p:sp>
        <p:nvSpPr>
          <p:cNvPr id="655" name="Rounded Rectangle 60"/>
          <p:cNvSpPr/>
          <p:nvPr/>
        </p:nvSpPr>
        <p:spPr>
          <a:xfrm>
            <a:off x="509760" y="1916280"/>
            <a:ext cx="2286000" cy="895320"/>
          </a:xfrm>
          <a:prstGeom prst="roundRect">
            <a:avLst>
              <a:gd name="adj" fmla="val 16667"/>
            </a:avLst>
          </a:prstGeom>
          <a:solidFill>
            <a:srgbClr val="b0ca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ordan Development Area 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(Jabal Ajloun – Dead S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ounded Rectangle 35"/>
          <p:cNvSpPr/>
          <p:nvPr/>
        </p:nvSpPr>
        <p:spPr>
          <a:xfrm>
            <a:off x="5697360" y="3976560"/>
            <a:ext cx="1621080" cy="609840"/>
          </a:xfrm>
          <a:prstGeom prst="roundRect">
            <a:avLst>
              <a:gd name="adj" fmla="val 16667"/>
            </a:avLst>
          </a:prstGeom>
          <a:solidFill>
            <a:srgbClr val="d8b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mman </a:t>
            </a:r>
            <a:r>
              <a:rPr b="0" lang="en-US" sz="1100" spc="-1" strike="noStrike">
                <a:solidFill>
                  <a:srgbClr val="000000"/>
                </a:solidFill>
                <a:latin typeface="Britannic Bold"/>
              </a:rPr>
              <a:t>Development A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ounded Rectangle 34"/>
          <p:cNvSpPr/>
          <p:nvPr/>
        </p:nvSpPr>
        <p:spPr>
          <a:xfrm>
            <a:off x="2719440" y="1382760"/>
            <a:ext cx="1406520" cy="609480"/>
          </a:xfrm>
          <a:prstGeom prst="roundRect">
            <a:avLst>
              <a:gd name="adj" fmla="val 16667"/>
            </a:avLst>
          </a:prstGeom>
          <a:solidFill>
            <a:srgbClr val="ebb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rbid </a:t>
            </a:r>
            <a:r>
              <a:rPr b="0" lang="en-US" sz="1100" spc="-1" strike="noStrike">
                <a:solidFill>
                  <a:srgbClr val="000000"/>
                </a:solidFill>
                <a:latin typeface="Britannic Bold"/>
              </a:rPr>
              <a:t>Development A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Elbow Connector 52" descr=""/>
          <p:cNvPicPr/>
          <p:nvPr/>
        </p:nvPicPr>
        <p:blipFill>
          <a:blip r:embed="rId4"/>
          <a:stretch/>
        </p:blipFill>
        <p:spPr>
          <a:xfrm>
            <a:off x="3870360" y="5241960"/>
            <a:ext cx="1865160" cy="525600"/>
          </a:xfrm>
          <a:prstGeom prst="rect">
            <a:avLst/>
          </a:prstGeom>
          <a:ln w="0">
            <a:noFill/>
          </a:ln>
        </p:spPr>
      </p:pic>
      <p:pic>
        <p:nvPicPr>
          <p:cNvPr id="659" name="Elbow Connector 52" descr=""/>
          <p:cNvPicPr/>
          <p:nvPr/>
        </p:nvPicPr>
        <p:blipFill>
          <a:blip r:embed="rId5"/>
          <a:stretch/>
        </p:blipFill>
        <p:spPr>
          <a:xfrm>
            <a:off x="2352600" y="5473800"/>
            <a:ext cx="957240" cy="506160"/>
          </a:xfrm>
          <a:prstGeom prst="rect">
            <a:avLst/>
          </a:prstGeom>
          <a:ln w="0">
            <a:noFill/>
          </a:ln>
        </p:spPr>
      </p:pic>
      <p:pic>
        <p:nvPicPr>
          <p:cNvPr id="660" name="Elbow Connector 52" descr=""/>
          <p:cNvPicPr/>
          <p:nvPr/>
        </p:nvPicPr>
        <p:blipFill>
          <a:blip r:embed="rId6"/>
          <a:stretch/>
        </p:blipFill>
        <p:spPr>
          <a:xfrm>
            <a:off x="4432320" y="1646280"/>
            <a:ext cx="768240" cy="1352520"/>
          </a:xfrm>
          <a:prstGeom prst="rect">
            <a:avLst/>
          </a:prstGeom>
          <a:ln w="0">
            <a:noFill/>
          </a:ln>
        </p:spPr>
      </p:pic>
      <p:pic>
        <p:nvPicPr>
          <p:cNvPr id="661" name="Elbow Connector 52" descr=""/>
          <p:cNvPicPr/>
          <p:nvPr/>
        </p:nvPicPr>
        <p:blipFill>
          <a:blip r:embed="rId7"/>
          <a:stretch/>
        </p:blipFill>
        <p:spPr>
          <a:xfrm>
            <a:off x="4114800" y="3786120"/>
            <a:ext cx="1620720" cy="536760"/>
          </a:xfrm>
          <a:prstGeom prst="rect">
            <a:avLst/>
          </a:prstGeom>
          <a:ln w="0">
            <a:noFill/>
          </a:ln>
        </p:spPr>
      </p:pic>
      <p:pic>
        <p:nvPicPr>
          <p:cNvPr id="662" name="Elbow Connector 52" descr=""/>
          <p:cNvPicPr/>
          <p:nvPr/>
        </p:nvPicPr>
        <p:blipFill>
          <a:blip r:embed="rId8"/>
          <a:stretch/>
        </p:blipFill>
        <p:spPr>
          <a:xfrm>
            <a:off x="3376440" y="1951200"/>
            <a:ext cx="689040" cy="931680"/>
          </a:xfrm>
          <a:prstGeom prst="rect">
            <a:avLst/>
          </a:prstGeom>
          <a:ln w="0">
            <a:noFill/>
          </a:ln>
        </p:spPr>
      </p:pic>
      <p:pic>
        <p:nvPicPr>
          <p:cNvPr id="663" name="Elbow Connector 52" descr=""/>
          <p:cNvPicPr/>
          <p:nvPr/>
        </p:nvPicPr>
        <p:blipFill>
          <a:blip r:embed="rId9"/>
          <a:stretch/>
        </p:blipFill>
        <p:spPr>
          <a:xfrm>
            <a:off x="1609560" y="2766960"/>
            <a:ext cx="2219400" cy="1103400"/>
          </a:xfrm>
          <a:prstGeom prst="rect">
            <a:avLst/>
          </a:prstGeom>
          <a:ln w="0">
            <a:noFill/>
          </a:ln>
        </p:spPr>
      </p:pic>
      <p:pic>
        <p:nvPicPr>
          <p:cNvPr id="664" name="Elbow Connector 52" descr=""/>
          <p:cNvPicPr/>
          <p:nvPr/>
        </p:nvPicPr>
        <p:blipFill>
          <a:blip r:embed="rId10"/>
          <a:stretch/>
        </p:blipFill>
        <p:spPr>
          <a:xfrm>
            <a:off x="1609560" y="2766960"/>
            <a:ext cx="2408400" cy="6159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4" descr="logo copy.png"/>
          <p:cNvPicPr/>
          <p:nvPr/>
        </p:nvPicPr>
        <p:blipFill>
          <a:blip r:embed="rId11"/>
          <a:stretch/>
        </p:blipFill>
        <p:spPr>
          <a:xfrm>
            <a:off x="3052800" y="5824440"/>
            <a:ext cx="426960" cy="3715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65" descr="logo copy.png"/>
          <p:cNvPicPr/>
          <p:nvPr/>
        </p:nvPicPr>
        <p:blipFill>
          <a:blip r:embed="rId12"/>
          <a:stretch/>
        </p:blipFill>
        <p:spPr>
          <a:xfrm>
            <a:off x="3695760" y="5181480"/>
            <a:ext cx="428400" cy="370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67" descr="logo copy.png"/>
          <p:cNvPicPr/>
          <p:nvPr/>
        </p:nvPicPr>
        <p:blipFill>
          <a:blip r:embed="rId13"/>
          <a:stretch/>
        </p:blipFill>
        <p:spPr>
          <a:xfrm>
            <a:off x="3645000" y="3807000"/>
            <a:ext cx="428400" cy="36972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66" descr="logo copy.png"/>
          <p:cNvPicPr/>
          <p:nvPr/>
        </p:nvPicPr>
        <p:blipFill>
          <a:blip r:embed="rId14"/>
          <a:stretch/>
        </p:blipFill>
        <p:spPr>
          <a:xfrm>
            <a:off x="3821040" y="3672000"/>
            <a:ext cx="426960" cy="3697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69" descr="logo copy.png"/>
          <p:cNvPicPr/>
          <p:nvPr/>
        </p:nvPicPr>
        <p:blipFill>
          <a:blip r:embed="rId15"/>
          <a:stretch/>
        </p:blipFill>
        <p:spPr>
          <a:xfrm>
            <a:off x="3809880" y="3249720"/>
            <a:ext cx="428760" cy="3697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55" descr="logo copy.png"/>
          <p:cNvPicPr/>
          <p:nvPr/>
        </p:nvPicPr>
        <p:blipFill>
          <a:blip r:embed="rId16"/>
          <a:stretch/>
        </p:blipFill>
        <p:spPr>
          <a:xfrm>
            <a:off x="3838680" y="2879640"/>
            <a:ext cx="426960" cy="3700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68" descr="logo copy.png"/>
          <p:cNvPicPr/>
          <p:nvPr/>
        </p:nvPicPr>
        <p:blipFill>
          <a:blip r:embed="rId17"/>
          <a:stretch/>
        </p:blipFill>
        <p:spPr>
          <a:xfrm>
            <a:off x="4238640" y="2995560"/>
            <a:ext cx="426960" cy="37008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51"/>
          <p:cNvSpPr/>
          <p:nvPr/>
        </p:nvSpPr>
        <p:spPr>
          <a:xfrm>
            <a:off x="7572240" y="1230480"/>
            <a:ext cx="1379520" cy="755640"/>
          </a:xfrm>
          <a:prstGeom prst="rect">
            <a:avLst/>
          </a:prstGeom>
          <a:solidFill>
            <a:srgbClr val="d03838"/>
          </a:solidFill>
          <a:ln w="9360">
            <a:solidFill>
              <a:srgbClr val="e6ded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Income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4"/>
          <p:cNvSpPr/>
          <p:nvPr/>
        </p:nvSpPr>
        <p:spPr>
          <a:xfrm>
            <a:off x="7588080" y="2125800"/>
            <a:ext cx="1379880" cy="755640"/>
          </a:xfrm>
          <a:prstGeom prst="rect">
            <a:avLst/>
          </a:prstGeom>
          <a:solidFill>
            <a:srgbClr val="d03838"/>
          </a:solidFill>
          <a:ln w="9360">
            <a:solidFill>
              <a:srgbClr val="e6ded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Income Tax on Ex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57"/>
          <p:cNvSpPr/>
          <p:nvPr/>
        </p:nvSpPr>
        <p:spPr>
          <a:xfrm>
            <a:off x="7572240" y="2941560"/>
            <a:ext cx="1379520" cy="755640"/>
          </a:xfrm>
          <a:prstGeom prst="rect">
            <a:avLst/>
          </a:prstGeom>
          <a:solidFill>
            <a:srgbClr val="d03838"/>
          </a:solidFill>
          <a:ln w="9360">
            <a:solidFill>
              <a:srgbClr val="e6ded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S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58"/>
          <p:cNvSpPr/>
          <p:nvPr/>
        </p:nvSpPr>
        <p:spPr>
          <a:xfrm>
            <a:off x="7588080" y="3749760"/>
            <a:ext cx="1379880" cy="753840"/>
          </a:xfrm>
          <a:prstGeom prst="rect">
            <a:avLst/>
          </a:prstGeom>
          <a:solidFill>
            <a:srgbClr val="d03838"/>
          </a:solidFill>
          <a:ln w="9360">
            <a:solidFill>
              <a:srgbClr val="e6ded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Import D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59"/>
          <p:cNvSpPr/>
          <p:nvPr/>
        </p:nvSpPr>
        <p:spPr>
          <a:xfrm>
            <a:off x="7572240" y="4584600"/>
            <a:ext cx="1379520" cy="755640"/>
          </a:xfrm>
          <a:prstGeom prst="rect">
            <a:avLst/>
          </a:prstGeom>
          <a:solidFill>
            <a:srgbClr val="d03838"/>
          </a:solidFill>
          <a:ln w="9360">
            <a:solidFill>
              <a:srgbClr val="e6ded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Social Services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61"/>
          <p:cNvSpPr/>
          <p:nvPr/>
        </p:nvSpPr>
        <p:spPr>
          <a:xfrm>
            <a:off x="7588080" y="5411880"/>
            <a:ext cx="1379880" cy="753840"/>
          </a:xfrm>
          <a:prstGeom prst="rect">
            <a:avLst/>
          </a:prstGeom>
          <a:solidFill>
            <a:srgbClr val="d03838"/>
          </a:solidFill>
          <a:ln w="9360">
            <a:solidFill>
              <a:srgbClr val="e6ded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Dividends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ounded Rectangle 31"/>
          <p:cNvSpPr/>
          <p:nvPr/>
        </p:nvSpPr>
        <p:spPr>
          <a:xfrm>
            <a:off x="1333440" y="4844880"/>
            <a:ext cx="1719360" cy="673200"/>
          </a:xfrm>
          <a:prstGeom prst="roundRect">
            <a:avLst>
              <a:gd name="adj" fmla="val 16667"/>
            </a:avLst>
          </a:prstGeom>
          <a:solidFill>
            <a:srgbClr val="d0a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qaba Special Economic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ounded Rectangle 33"/>
          <p:cNvSpPr/>
          <p:nvPr/>
        </p:nvSpPr>
        <p:spPr>
          <a:xfrm>
            <a:off x="5691240" y="5421240"/>
            <a:ext cx="1620720" cy="609840"/>
          </a:xfrm>
          <a:prstGeom prst="roundRect">
            <a:avLst>
              <a:gd name="adj" fmla="val 16667"/>
            </a:avLst>
          </a:prstGeom>
          <a:solidFill>
            <a:srgbClr val="5782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a’an </a:t>
            </a:r>
            <a:r>
              <a:rPr b="0" lang="en-US" sz="1100" spc="-1" strike="noStrike">
                <a:solidFill>
                  <a:srgbClr val="000000"/>
                </a:solidFill>
                <a:latin typeface="Britannic Bold"/>
              </a:rPr>
              <a:t>Development A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ounded Rectangle 36"/>
          <p:cNvSpPr/>
          <p:nvPr/>
        </p:nvSpPr>
        <p:spPr>
          <a:xfrm>
            <a:off x="5157720" y="1382760"/>
            <a:ext cx="1621080" cy="609480"/>
          </a:xfrm>
          <a:prstGeom prst="roundRect">
            <a:avLst>
              <a:gd name="adj" fmla="val 16667"/>
            </a:avLst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afraq </a:t>
            </a:r>
            <a:r>
              <a:rPr b="0" lang="en-US" sz="1100" spc="-1" strike="noStrike">
                <a:solidFill>
                  <a:srgbClr val="000000"/>
                </a:solidFill>
                <a:latin typeface="Britannic Bold"/>
              </a:rPr>
              <a:t>Development Ar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21:22:00Z</dcterms:created>
  <dc:creator>果因PPT工作室</dc:creator>
  <dc:description/>
  <cp:keywords>XS-普屏 4：3;SC-淡黄色;BG-浅色;DH-静态;XJ-二级</cp:keywords>
  <dc:language>en-US</dc:language>
  <cp:lastModifiedBy>rental</cp:lastModifiedBy>
  <dcterms:modified xsi:type="dcterms:W3CDTF">2015-06-01T06:43:23Z</dcterms:modified>
  <cp:revision>496</cp:revision>
  <dc:subject>TP-商务公关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77</vt:lpwstr>
  </property>
</Properties>
</file>