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8C44-CF45-41C4-886B-90D83D42E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D775-5CCE-4239-9B98-44204035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E6F06-E335-41AF-B8FC-3F1A3D274A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683AF-18B7-4BAA-8EC0-243CE422B3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869AA-B218-45A4-BD9B-1E1BEFB538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7DB7F-5C75-4F74-A1AF-FEE67088B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F563F-BEEB-4DFA-B03D-5FD3F33BB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2D9DA-4C19-4699-BF64-54BCDADF9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5C7CB2-FA7E-47A1-A680-B0236ECD7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A069B4-4E76-4094-A21C-C9DE74B2DA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C350C5-32A7-4BB4-AA77-506331879C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8ECFB8-8DA5-40DD-9FAA-A66446D404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4287E-B144-48BA-B2E7-C947C3A1D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C45E03-D2F4-44F1-BA17-CEDCD466D9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644354-3C9F-47AD-A5A6-697E353D04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43FC55-58F0-4606-B035-6F4C4F94A9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99BEE5-BE3F-4F45-810D-4BE9B50775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B77594-19B1-41F1-B4B9-80A01E0EE0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11B8C8-814A-4917-AC7F-44165EE38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2562CD-2263-4E90-9F31-4A11CF90E9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F60477-A869-4960-99A3-001567189C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0C43FD-5188-492F-86DA-75CE0D2EA7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35D64C-A5B5-4B40-B0FE-2917D86568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8D26E-425D-4729-B39F-F3449D1CE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1DF6D3-59B4-4F3A-984C-E2CFDA4ACD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C4E2B2-3B2F-42FE-94EE-BDB377595A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A7F62B-3D6B-41A0-A102-3E0131B694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BC1157-D9F2-43DC-9BFD-D3D8800585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416BD1-EB35-4848-96F3-1CCC4BB885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F4CB80-F413-446B-A7EE-541F7380B6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6C987B-98F0-4AC5-A3FC-1A636A4A20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1F847-3FF3-4F4C-B21F-CA1232F11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C1E2F6-B752-4926-AD13-471D8D883D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287063-EF06-4880-9351-3DA7262ABF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9554C-F8F5-480B-A38C-6E67F59E1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2B0EFF-830F-4091-9305-A796548BD6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0C49D4-1D9C-44A7-BB4A-2E62FCDEC4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BA288D-29AD-4F8B-B566-ACA9FF567B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4072EE-0220-4B41-A11B-CBFC207BDB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A6FFBD-4F02-468F-8400-C34AEA750A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C7C825-444C-45D9-829A-50E1F7E8D1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CDB214-B239-4A5B-ACEC-1A88B649C2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F82738-74DA-43B5-8B44-2C4815A089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157F70-1C73-4815-AB41-B090B10A18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2C1EDA-6A49-4F0C-9A9F-67B5265E1F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2614A-7BD1-4CB0-9C50-CDF156B24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6AF58D-35AE-4DF1-A381-AFBB3549D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51CA3E-78E3-48D9-854F-7DB3DD97A9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F4D9B6-5242-4316-94CB-3F9C4CCE9D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693492-19A9-4507-9E7C-1338408A21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EB0FED-6859-43E1-A658-712E6EEB2D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1DB7E1-A5E0-421B-8386-ED3617847B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223580-CE85-4EB6-A260-AC789A141F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D9C438-5D4D-44AC-BC67-AC64C201C6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E3CB45-83A2-4944-A96E-A51E18465A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3B0ECB-1D9A-4454-9605-1D8FD3EFDF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55919-B2C0-406D-B71F-BAF36CDC3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997230-CC2D-4436-B438-90E77A1A54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25ADBD-5688-42CC-864C-9F3BFA6A18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A28CC0-A3AB-4F09-B090-E2D930D245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63DF47-58F2-4FC0-B020-5ED0325550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1AC692-301D-4686-B0FA-4C1DEBF466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B01F57-E27C-4196-86EC-940BABCC2A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E9887F-853A-4EA6-9680-62B4756EC2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CEFCE-116B-4290-B115-B72EF873B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97BFA-AB61-471E-87D8-78498F3B3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E1BF4-0442-4D44-B654-83C37A0FD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A362-BF20-412E-867C-EF5B89FF8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8B7FC-BED6-4C95-B110-FF73F99D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185DC-C8ED-42C9-8355-43EAB687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CD56-B9E0-4BC6-8EBC-C356A43B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738D1-1CC9-402A-8121-E3E77D056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DF48A-2ED6-468B-971F-EDEB02244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6B500-4792-463D-89ED-C29EAC1D2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20548-D19E-4ECE-8FED-F0D12E62F0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C9DC2-3EE6-48A5-8BD6-24A4BB039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3568E-3641-4971-A48D-4E538B4DD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BAB90-AFB6-4860-BBF9-98568BB01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02574-3D83-4869-B45D-5037B2E7D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13F6C-418C-4A2A-B97D-93FCB0C2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52DBE-319B-41A7-ACCE-338C0F133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06751-FBED-4122-9BB0-F41F47042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ADE93-DFBB-4C8D-B60D-D8D4907AD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41820-6666-4E6D-9417-B8994A5F7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51D2A-96A9-47FE-BBD6-29A5C1C36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047E62-6980-4C35-943E-8534D3F9F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296966-3445-433F-8E6C-AA883BEB8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BE0F5-9A22-4B3E-B800-6DA94A563D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50667-4438-478D-91C2-C3A402C94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56D17-C19F-47BB-81B7-E81CAB885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EFBD-94D7-4966-83BC-0D707258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45F3D-FC6B-4A37-B05A-BCBF24529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BB021-CD3E-4C82-9086-903BCFEC3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D13F1-ECD1-4240-B404-3E8115929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95B74-9AAF-4F9A-BFD7-CB2304CE0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83647-E994-449F-8D0A-F5968873D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087A8-0346-485D-ADE2-0F7530457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631F6-50C2-40C3-8AC8-8CD8963F1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2416F9-7AA0-4496-AAFB-280174768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81BCAB-8D49-4E8A-AB4A-83C33A577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7D7BBD-A679-4333-8D07-E85A59B62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2526-2BFD-44F6-9CDD-80D83780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258DB-7CD0-4E66-A955-919418FB0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C3680-9AA4-4601-9F1E-BF18DF076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163AB-3BC4-4ED7-80A9-29ECD6B42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6329A-1F3E-4421-9D1F-319997AFA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929FE-B450-4EE7-9F0B-1CAF9D4F0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87B60-7E7A-4207-8A30-929B4B1F2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B3A02-1631-4000-9292-4A2AFFC6B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93BA0B-A773-46DA-BC73-0FFCDA3A5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8C185-8394-4959-B15D-E378B695D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55CE4-64A9-4536-85FB-7C09CC9B1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F210-B0E0-4AAF-9015-ECCF297F8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B94AF3-31EE-4A63-951A-B790066D4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CCE720-803D-46D3-B092-49EBBB6318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92BCE-9D57-4782-ACD1-06CE1D10F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4ADBE-7DD7-4BCA-BC16-4EC97FC28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40611-A828-42A8-A16E-5DC58282D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E4CED-B6D2-43CC-96EA-44598C86B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CB914-D7D4-48B9-BFC9-F20EF414C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9D7BC-A57F-4411-B12A-89B59ACAE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60BA6A-A0BE-4BF5-A477-C718F77AE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B1DB0-E1CE-4925-B8EC-531F4E788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A070-94D5-4060-81D6-284AEA40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52611-A7A2-4DF5-AE59-B9359AFC2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F2610-68C1-4C95-8155-D03623A2C9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E3845-75C3-4D57-A607-1A6180B6A3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D81036-AABD-4D39-8B6F-44608B0206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C192E-C90B-4844-B603-5DB1B207E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91DCB-10FA-4574-81A5-500D182ED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BD8F7-D10D-4CE3-8801-44050F2DB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73883B-CF59-464B-9327-0B4CC6F9C7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F9F79-7918-439C-A737-6F36CD822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231CE-455E-4DA9-B5F3-215777DBA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9273-55D7-48EA-90E1-8FA7F7A7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9A776-EE74-4428-B92A-152AA678A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E706D-C2A6-486A-8D65-3AFFEDA1D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DD1C9-78B7-4A1B-9F4B-04CC700B8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9BAF75-F706-4447-A7A6-9DBCAEC945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9D85D0-AB4A-4317-9680-ADB53A59E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61EA6B-6439-44D5-8BC3-D850093D58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2D9F8-ECBD-4A93-A94C-E4D731BD0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6C7516-9B76-4EF6-B0B1-5F5812307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78BC5-E7A5-42CF-B83A-93A43C5764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93DF2-13F9-4A52-9567-847AE7E40B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74EA-44A6-4C1E-809B-417E11F3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FA142-DFA3-4AD1-90B5-F5FC93B78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56744-1DC3-4E67-ABD7-94C84519C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5BFD9-0501-4CCF-AD00-8D0F282D0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5701E-F589-41A0-AAC6-BA326CEC8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970E0-1271-4905-AFAC-64535B388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806764-98AD-4ED2-9AF3-59D759BDB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6305C9-C231-4F23-838D-78AF920CD9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0637CB-EE69-47B5-9BDC-CFCFE5B28C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AEABA5-ED88-424D-B35B-65CD8D5A4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58303-76B8-4AAC-91F5-4F7DEC6A65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D594-0830-462C-AF88-0D8980C2E83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3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8"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440"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A39E-0B4F-422D-8D7F-E3B783D244F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9"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481"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42E7-B5F2-4328-8DC5-EC72C5B03DE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1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52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3D1B-3A64-491D-BD06-55F29EF039D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6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56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13AD-833E-4321-94D1-6E66AE90054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82E7-550F-4142-83C2-24779BC2993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7D8C-045F-413A-92E7-144706C7C0B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9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19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10C9-1AE1-4F64-A6DA-C745508A2B4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3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3"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23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CC4B-4902-4660-9DD0-96B9CDE12C8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7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27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64CA-53CC-4407-B339-B39CF4001EF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1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5"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31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32E6-D7D6-4D09-B76F-E05F8F7296D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5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5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358"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F95E-5EE9-4827-9893-30EF3E3EEB5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9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ic partnership forum 2014</a:t>
            </a:r>
            <a:endParaRPr b="0" lang="en-US" sz="1000" spc="-1" strike="noStrike">
              <a:solidFill>
                <a:srgbClr val="000000"/>
              </a:solidFill>
              <a:latin typeface="Times New Roman"/>
            </a:endParaRPr>
          </a:p>
        </p:txBody>
      </p:sp>
      <p:sp>
        <p:nvSpPr>
          <p:cNvPr id="3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F53-FDDF-4BE4-BF88-1973F6ED08E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0" name="WordArt 7" descr=""/>
          <p:cNvPicPr/>
          <p:nvPr/>
        </p:nvPicPr>
        <p:blipFill>
          <a:blip r:embed="rId1"/>
          <a:stretch/>
        </p:blipFill>
        <p:spPr>
          <a:xfrm>
            <a:off x="1987560" y="560520"/>
            <a:ext cx="5516640" cy="1371600"/>
          </a:xfrm>
          <a:prstGeom prst="rect">
            <a:avLst/>
          </a:prstGeom>
          <a:ln w="0">
            <a:noFill/>
          </a:ln>
        </p:spPr>
      </p:pic>
      <p:sp>
        <p:nvSpPr>
          <p:cNvPr id="601" name="WordArt 8"/>
          <p:cNvSpPr txBox="1"/>
          <p:nvPr/>
        </p:nvSpPr>
        <p:spPr>
          <a:xfrm>
            <a:off x="971640" y="652320"/>
            <a:ext cx="5562360" cy="1047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MCS Taybah S_U normal."/>
              </a:rPr>
              <a:t> </a:t>
            </a:r>
            <a:endParaRPr b="0" lang="en-US" sz="1800" spc="1" strike="noStrike">
              <a:ln w="0">
                <a:noFill/>
              </a:ln>
              <a:solidFill>
                <a:srgbClr val="000000"/>
              </a:solidFill>
              <a:latin typeface="MCS Taybah S_U normal."/>
              <a:ea typeface="MCS Taybah S_U normal."/>
            </a:endParaRPr>
          </a:p>
        </p:txBody>
      </p:sp>
      <p:sp>
        <p:nvSpPr>
          <p:cNvPr id="602" name="Subtitle 2"/>
          <p:cNvSpPr/>
          <p:nvPr/>
        </p:nvSpPr>
        <p:spPr>
          <a:xfrm>
            <a:off x="1214280" y="4714920"/>
            <a:ext cx="7086600" cy="1447920"/>
          </a:xfrm>
          <a:prstGeom prst="rect">
            <a:avLst/>
          </a:prstGeom>
          <a:noFill/>
          <a:ln w="0">
            <a:noFill/>
          </a:ln>
        </p:spPr>
        <p:style>
          <a:lnRef idx="0"/>
          <a:fillRef idx="0"/>
          <a:effectRef idx="0"/>
          <a:fontRef idx="minor"/>
        </p:style>
        <p:txBody>
          <a:bodyPr lIns="90000" rIns="90000" tIns="46800" bIns="46800" anchor="t">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WordArt 10"/>
          <p:cNvSpPr txBox="1"/>
          <p:nvPr/>
        </p:nvSpPr>
        <p:spPr>
          <a:xfrm>
            <a:off x="1000080" y="2928960"/>
            <a:ext cx="6858000" cy="186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0066"/>
                </a:solidFill>
                <a:latin typeface="AF_Jeddah"/>
              </a:rPr>
              <a:t>Investment opportunities in Iraq</a:t>
            </a:r>
            <a:endParaRPr b="0" lang="en-US" sz="1800" spc="1" strike="noStrike">
              <a:ln w="0">
                <a:noFill/>
              </a:ln>
              <a:solidFill>
                <a:srgbClr val="330066"/>
              </a:solidFill>
              <a:latin typeface="AF_Jeddah"/>
              <a:ea typeface="AF_Jeddah"/>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0066"/>
                </a:solidFill>
                <a:latin typeface="AF_Jeddah"/>
              </a:rPr>
              <a:t>and strategic projects</a:t>
            </a:r>
            <a:endParaRPr b="0" lang="en-US" sz="1800" spc="1" strike="noStrike">
              <a:ln w="0">
                <a:noFill/>
              </a:ln>
              <a:solidFill>
                <a:srgbClr val="330066"/>
              </a:solidFill>
              <a:latin typeface="AF_Jeddah"/>
              <a:ea typeface="AF_Jeddah"/>
            </a:endParaRPr>
          </a:p>
        </p:txBody>
      </p:sp>
      <p:graphicFrame>
        <p:nvGraphicFramePr>
          <p:cNvPr id="604" name="Object 16"/>
          <p:cNvGraphicFramePr/>
          <p:nvPr/>
        </p:nvGraphicFramePr>
        <p:xfrm>
          <a:off x="357120" y="428760"/>
          <a:ext cx="1449360" cy="1319040"/>
        </p:xfrm>
        <a:graphic>
          <a:graphicData uri="http://schemas.openxmlformats.org/presentationml/2006/ole">
            <p:oleObj r:id="rId2" spid="">
              <p:embed/>
              <p:pic>
                <p:nvPicPr>
                  <p:cNvPr id="605" name="Object 16" descr=""/>
                  <p:cNvPicPr/>
                  <p:nvPr/>
                </p:nvPicPr>
                <p:blipFill>
                  <a:blip r:embed="rId3"/>
                  <a:stretch/>
                </p:blipFill>
                <p:spPr>
                  <a:xfrm>
                    <a:off x="357120" y="428760"/>
                    <a:ext cx="1449360" cy="1319040"/>
                  </a:xfrm>
                  <a:prstGeom prst="rect">
                    <a:avLst/>
                  </a:prstGeom>
                  <a:ln w="0">
                    <a:noFill/>
                  </a:ln>
                </p:spPr>
              </p:pic>
            </p:oleObj>
          </a:graphicData>
        </a:graphic>
      </p:graphicFrame>
      <p:pic>
        <p:nvPicPr>
          <p:cNvPr id="606" name="Picture 28" descr="http://investpromo.gov.iq/wp-content/themes/nic/images/logo-2.png"/>
          <p:cNvPicPr/>
          <p:nvPr/>
        </p:nvPicPr>
        <p:blipFill>
          <a:blip r:embed="rId4">
            <a:lum contrast="18000"/>
          </a:blip>
          <a:stretch/>
        </p:blipFill>
        <p:spPr>
          <a:xfrm>
            <a:off x="7834320" y="571680"/>
            <a:ext cx="1023840" cy="1143000"/>
          </a:xfrm>
          <a:prstGeom prst="rect">
            <a:avLst/>
          </a:prstGeom>
          <a:ln w="0">
            <a:noFill/>
          </a:ln>
        </p:spPr>
      </p:pic>
      <p:sp>
        <p:nvSpPr>
          <p:cNvPr id="607" name="Rectangle 8"/>
          <p:cNvSpPr/>
          <p:nvPr/>
        </p:nvSpPr>
        <p:spPr>
          <a:xfrm>
            <a:off x="2214720" y="542916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F_Jeddah"/>
              </a:rPr>
              <a:t>Salar M. Ame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F_Jeddah"/>
              </a:rPr>
              <a:t>Vic-Chairman of INIC</a:t>
            </a:r>
            <a:endParaRPr b="0" lang="en-US" sz="1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4">
                                  <p:stCondLst>
                                    <p:cond delay="0"/>
                                  </p:stCondLst>
                                  <p:endCondLst>
                                    <p:cond evt="begin"/>
                                  </p:endCondLst>
                                  <p:childTnLst>
                                    <p:set>
                                      <p:cBhvr>
                                        <p:cTn id="6" dur="1" fill="hold">
                                          <p:stCondLst>
                                            <p:cond delay="0"/>
                                          </p:stCondLst>
                                        </p:cTn>
                                        <p:tgtEl>
                                          <p:spTgt spid="601"/>
                                        </p:tgtEl>
                                        <p:attrNameLst>
                                          <p:attrName>style.visibility</p:attrName>
                                        </p:attrNameLst>
                                      </p:cBhvr>
                                      <p:to>
                                        <p:strVal val="visible"/>
                                      </p:to>
                                    </p:set>
                                    <p:anim calcmode="lin" valueType="num">
                                      <p:cBhvr additive="repl">
                                        <p:cTn id="7" dur="500" fill="hold"/>
                                        <p:tgtEl>
                                          <p:spTgt spid="601"/>
                                        </p:tgtEl>
                                        <p:attrNameLst>
                                          <p:attrName>ppt_w</p:attrName>
                                        </p:attrNameLst>
                                      </p:cBhvr>
                                      <p:tavLst>
                                        <p:tav tm="0">
                                          <p:val>
                                            <p:strVal val="0"/>
                                          </p:val>
                                        </p:tav>
                                        <p:tav tm="100000">
                                          <p:val>
                                            <p:strVal val="#ppt_w"/>
                                          </p:val>
                                        </p:tav>
                                      </p:tavLst>
                                    </p:anim>
                                    <p:anim calcmode="lin" valueType="num">
                                      <p:cBhvr additive="repl">
                                        <p:cTn id="8" dur="500" fill="hold"/>
                                        <p:tgtEl>
                                          <p:spTgt spid="601"/>
                                        </p:tgtEl>
                                        <p:attrNameLst>
                                          <p:attrName>ppt_h</p:attrName>
                                        </p:attrNameLst>
                                      </p:cBhvr>
                                      <p:tavLst>
                                        <p:tav tm="0">
                                          <p:val>
                                            <p:strVal val="0"/>
                                          </p:val>
                                        </p:tav>
                                        <p:tav tm="100000">
                                          <p:val>
                                            <p:strVal val="#ppt_h"/>
                                          </p:val>
                                        </p:tav>
                                      </p:tavLst>
                                    </p:anim>
                                    <p:animEffect filter="fade" transition="in">
                                      <p:cBhvr additive="repl">
                                        <p:cTn id="9" dur="500"/>
                                        <p:tgtEl>
                                          <p:spTgt spid="601"/>
                                        </p:tgtEl>
                                      </p:cBhvr>
                                    </p:animEffect>
                                  </p:childTnLst>
                                </p:cTn>
                              </p:par>
                              <p:par>
                                <p:cTn id="10" nodeType="withEffect" fill="hold" presetClass="entr" presetID="12" presetSubtype="4">
                                  <p:stCondLst>
                                    <p:cond delay="0"/>
                                  </p:stCondLst>
                                  <p:childTnLst>
                                    <p:set>
                                      <p:cBhvr>
                                        <p:cTn id="11" dur="1" fill="hold">
                                          <p:stCondLst>
                                            <p:cond delay="0"/>
                                          </p:stCondLst>
                                        </p:cTn>
                                        <p:tgtEl>
                                          <p:spTgt spid="603"/>
                                        </p:tgtEl>
                                        <p:attrNameLst>
                                          <p:attrName>style.visibility</p:attrName>
                                        </p:attrNameLst>
                                      </p:cBhvr>
                                      <p:to>
                                        <p:strVal val="visible"/>
                                      </p:to>
                                    </p:set>
                                    <p:animEffect filter="slide(fromBottom)" transition="in">
                                      <p:cBhvr additive="repl">
                                        <p:cTn id="12" dur="500"/>
                                        <p:tgtEl>
                                          <p:spTgt spid="603"/>
                                        </p:tgtEl>
                                      </p:cBhvr>
                                    </p:animEffect>
                                  </p:childTnLst>
                                </p:cTn>
                              </p:par>
                              <p:par>
                                <p:cTn id="13" nodeType="withEffect" fill="hold" presetClass="entr" presetID="12" presetSubtype="4">
                                  <p:stCondLst>
                                    <p:cond delay="0"/>
                                  </p:stCondLst>
                                  <p:endCondLst>
                                    <p:cond evt="begin"/>
                                  </p:endCondLst>
                                  <p:childTnLst>
                                    <p:set>
                                      <p:cBhvr>
                                        <p:cTn id="14" dur="1" fill="hold">
                                          <p:stCondLst>
                                            <p:cond delay="0"/>
                                          </p:stCondLst>
                                        </p:cTn>
                                        <p:tgtEl>
                                          <p:spTgt spid="602"/>
                                        </p:tgtEl>
                                        <p:attrNameLst>
                                          <p:attrName>style.visibility</p:attrName>
                                        </p:attrNameLst>
                                      </p:cBhvr>
                                      <p:to>
                                        <p:strVal val="visible"/>
                                      </p:to>
                                    </p:set>
                                    <p:animEffect filter="slide(fromBottom)" transition="in">
                                      <p:cBhvr additive="repl">
                                        <p:cTn id="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6760" y="20484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ccessful Story</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609" name=""/>
          <p:cNvSpPr txBox="1"/>
          <p:nvPr/>
        </p:nvSpPr>
        <p:spPr>
          <a:xfrm>
            <a:off x="457200" y="1499760"/>
            <a:ext cx="8229600" cy="441180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r>
              <a:rPr b="0" lang="en-US" sz="3000" spc="-1" strike="noStrike">
                <a:solidFill>
                  <a:srgbClr val="000000"/>
                </a:solidFill>
                <a:latin typeface="Arial"/>
              </a:rPr>
              <a:t> </a:t>
            </a:r>
            <a:r>
              <a:rPr b="0" lang="en-US" sz="1600" spc="-1" strike="noStrike">
                <a:solidFill>
                  <a:srgbClr val="000000"/>
                </a:solidFill>
                <a:latin typeface="Arial"/>
              </a:rPr>
              <a:t>March 2010, The National Housing Program was announced as a part of the Iraqi Economic Development plan. According to the National Housing Program, National Investment Commission (“NIC”) proposed the BNCP project (“BNCP”) as the first and model project in IRAQ.</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NCP is the first and the biggest city development project throughout the history of Iraq. Bismayah city is located 10km south east of Baghdad on the Iraqi-Kuwaiti Highway, spread on a total area of 1,830 Hectare area and is planned to accommodate around 600,000 occupants in a total of 100,000 residential units. Also the infra-network such as electricity, water supply, and streets will be constructed.</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uccessful performance of this project, NIC have examined numerous proposals of varied companies from all over the world, and became convinced that Hanwha E&amp;C Corporation (“Hanwha”) is probably the most qualified developer and contractor Due to its cumulative knowledge on building/housing construction, city development, plant construction, civil and water treatment. Especially, Hanwha is the first and the only private company in Korea who has developed and constructed a new city accommodating 12,000 housing units all alone.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B688-D877-4EC5-9C35-1E28D26600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11"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56760" y="204840"/>
            <a:ext cx="75438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Local Partnerships Matchmaking Services</a:t>
            </a:r>
            <a:endParaRPr b="1" lang="en-US" sz="2800" spc="-1" strike="noStrike">
              <a:solidFill>
                <a:srgbClr val="330066"/>
              </a:solidFill>
              <a:latin typeface="Arial"/>
            </a:endParaRPr>
          </a:p>
        </p:txBody>
      </p:sp>
      <p:sp>
        <p:nvSpPr>
          <p:cNvPr id="613"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importance of local partnerships to facilitate investment in Iraq, the National Investment Commission is currently developing a local business matchmaking program that will connect Iraqi businesses with international companies seeking to enter the Iraqi market.</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C will be able to provide matchmaking services based on a number of factors including location and economic sector. International and local companies interested in partnerships should contact the NIC by filling out the Partnership Request Form and provide information on their company and the type of partnership they are seeking.</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tional Investment Commission supports and will facilitate matchmaking between Iraqi businesses and international entities. Linkages with foreign affiliates are a great driver of growth in a developing country’s domestic economy; foreign partners benefit from linkages, frequently through reduced costs, local market and product intelligence and enhanced assets. Local partnerships can serve as vital pathway to successful operations in countries that are in the process of refining their legal and regulatory environments, such as Iraq.</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81CF-3F32-40E5-B17C-4FF7AF4D37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15"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56760"/>
            <a:ext cx="7543800" cy="795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vestment in Iraq</a:t>
            </a:r>
            <a:endParaRPr b="1" lang="en-US" sz="2800" spc="-1" strike="noStrike">
              <a:solidFill>
                <a:srgbClr val="330066"/>
              </a:solidFill>
              <a:latin typeface="Arial"/>
            </a:endParaRPr>
          </a:p>
        </p:txBody>
      </p:sp>
      <p:sp>
        <p:nvSpPr>
          <p:cNvPr id="617" name=""/>
          <p:cNvSpPr txBox="1"/>
          <p:nvPr/>
        </p:nvSpPr>
        <p:spPr>
          <a:xfrm>
            <a:off x="457200" y="1719360"/>
            <a:ext cx="8229600" cy="4411440"/>
          </a:xfrm>
          <a:prstGeom prst="rect">
            <a:avLst/>
          </a:prstGeom>
          <a:noFill/>
          <a:ln w="0">
            <a:noFill/>
          </a:ln>
        </p:spPr>
        <p:txBody>
          <a:bodyPr anchor="t">
            <a:normAutofit/>
          </a:bodyPr>
          <a:p>
            <a:pPr marL="343080" indent="-343080" algn="just">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five years which witnessed intensive work  in spite of difficulties, referring that Iraq had succeeded  in achieving a growth rate of 9% in 2012 and reduced the unemployment rate to 11% and the rate of poverty to be 19%, he also pointed to the big attention  Iraq Government is paying to infrastructure development, as , water and sanitation, Electricity, Health , Education , Railways , Ports , Airports , Communications and so on adding that there are  many ongoing  projects and a large part of the budget of the current five-years plan (2013-2017)  had been allocated  to  infrastructure and rehabilitating economic sector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C establishment  in 2007 came as a result to Iraq’s great interest in attracting investments by setting the suitable business environment  and  it  is determined to create a legislative environment  appropriate to investment  and the investment  law was the most important step on this road describing the current investment  system with comfortable  though it was not perfect  while the Iraqi economy is still in a transitional stage from centralized economy to market economy; whereas GOI is looking forward to accomplish more .</a:t>
            </a:r>
            <a:endParaRPr b="0" lang="en-US" sz="1600" spc="-1" strike="noStrike">
              <a:solidFill>
                <a:srgbClr val="000000"/>
              </a:solidFill>
              <a:latin typeface="Arial"/>
            </a:endParaRPr>
          </a:p>
        </p:txBody>
      </p:sp>
      <p:sp>
        <p:nvSpPr>
          <p:cNvPr id="6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43E2-A80F-4319-8702-3BF60741DB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19"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56760" y="142560"/>
            <a:ext cx="7543800" cy="795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Vital sectors to Investment in</a:t>
            </a:r>
            <a:endParaRPr b="1" lang="en-US" sz="2800" spc="-1" strike="noStrike">
              <a:solidFill>
                <a:srgbClr val="330066"/>
              </a:solidFill>
              <a:latin typeface="Arial"/>
            </a:endParaRPr>
          </a:p>
        </p:txBody>
      </p:sp>
      <p:sp>
        <p:nvSpPr>
          <p:cNvPr id="621" name=""/>
          <p:cNvSpPr txBox="1"/>
          <p:nvPr/>
        </p:nvSpPr>
        <p:spPr>
          <a:xfrm>
            <a:off x="457200" y="1285920"/>
            <a:ext cx="8229600" cy="4411440"/>
          </a:xfrm>
          <a:prstGeom prst="rect">
            <a:avLst/>
          </a:prstGeom>
          <a:noFill/>
          <a:ln w="0">
            <a:noFill/>
          </a:ln>
        </p:spPr>
        <p:txBody>
          <a:bodyPr anchor="t">
            <a:normAutofit fontScale="95000"/>
          </a:bodyPr>
          <a:p>
            <a:pPr marL="325800" indent="-325800" algn="just">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conomically speaking, housing is a very vital sector for the important roles it plays in the formation of the fixed capital, generating incomes and creating job opportunities and through the connection with other sectoral activates. Many countries which enjoy financial surpluses go to maximizing the role of this sector, in other words considering it as a producing sector.</a:t>
            </a:r>
            <a:endParaRPr b="0" lang="en-US" sz="1500" spc="-1" strike="noStrike">
              <a:solidFill>
                <a:srgbClr val="000000"/>
              </a:solidFill>
              <a:latin typeface="Arial"/>
            </a:endParaRPr>
          </a:p>
          <a:p>
            <a:pPr marL="325800" indent="-325800" algn="just">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Government of Iraq granted the private sector and the foreign investor the enabled role that may achieve the touchable results in the housing production field with providing the lands suitable for housing purposes which will contribute to treating the problem of the residential slums and expanding in manufacturing the construction materials, taking into consideration the average growth of the Iraqi population and the fact of the need of 2 million housing units by 2015.</a:t>
            </a:r>
            <a:endParaRPr b="0" lang="en-US" sz="1500" spc="-1" strike="noStrike">
              <a:solidFill>
                <a:srgbClr val="000000"/>
              </a:solidFill>
              <a:latin typeface="Arial"/>
            </a:endParaRPr>
          </a:p>
          <a:p>
            <a:pPr marL="325800" indent="-325800" algn="just">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ontribution of this sector to the GDP in the fixed prices was approximately 5.8% for the year 2012, while the growth of this sector’s contribution rate to the GDP for the years 2009-2011 was 23.5%.</a:t>
            </a:r>
            <a:endParaRPr b="0" lang="en-US" sz="1500" spc="-1" strike="noStrike">
              <a:solidFill>
                <a:srgbClr val="000000"/>
              </a:solidFill>
              <a:latin typeface="Arial"/>
            </a:endParaRPr>
          </a:p>
          <a:p>
            <a:pPr marL="325800" indent="-325800" algn="just">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ional Investment Commission announced the national housing project to build 1 million housing units in all governorates of Iraq and have already started the implementation of the first stage of this huge project through constructing 100 thousand units in Baghdad through contracting with Hanawah South Korean Company for construction and Engineering to build Bismayah New City project, this 100 thousand units is part of Baghdad’s total housing quota of 224 thousand units.</a:t>
            </a:r>
            <a:endParaRPr b="0" lang="en-US" sz="1500" spc="-1" strike="noStrike">
              <a:solidFill>
                <a:srgbClr val="000000"/>
              </a:solidFill>
              <a:latin typeface="Arial"/>
            </a:endParaRPr>
          </a:p>
        </p:txBody>
      </p:sp>
      <p:sp>
        <p:nvSpPr>
          <p:cNvPr id="6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3892-A2CE-4781-B70C-9C837B96FA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23"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56760" y="214200"/>
            <a:ext cx="7543800" cy="7956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anaging relationships with the consumer</a:t>
            </a:r>
            <a:endParaRPr b="1" lang="en-US" sz="2400" spc="-1" strike="noStrike">
              <a:solidFill>
                <a:srgbClr val="330066"/>
              </a:solidFill>
              <a:latin typeface="Arial"/>
            </a:endParaRPr>
          </a:p>
        </p:txBody>
      </p:sp>
      <p:sp>
        <p:nvSpPr>
          <p:cNvPr id="625" name=""/>
          <p:cNvSpPr txBox="1"/>
          <p:nvPr/>
        </p:nvSpPr>
        <p:spPr>
          <a:xfrm>
            <a:off x="457200" y="128592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C) has expand its strategy for managing relations with the beneficiaries of its services in addition to providing basic information about the companies, which was generated through its database of companies that participated in the former conferences, as well as the (NIC) keeps track of all mutual contacts, meetings and geographical prefrontal expressed by the foreign investor.</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C) always hold talks and meetings and supplementary campaigns to consistent with the requirements of foreign investors, the (NIC) using database of detailed information on the management of relations with the beneficiaries, although they still focus on foreign investors within the of limited geographical framework. </a:t>
            </a:r>
            <a:endParaRPr b="0" lang="en-US" sz="1600" spc="-1" strike="noStrike">
              <a:solidFill>
                <a:srgbClr val="000000"/>
              </a:solidFill>
              <a:latin typeface="Arial"/>
            </a:endParaRPr>
          </a:p>
        </p:txBody>
      </p:sp>
      <p:sp>
        <p:nvSpPr>
          <p:cNvPr id="626"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217F-69C9-4C45-8836-EBAD55F27B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28"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56760" y="204480"/>
            <a:ext cx="7543800" cy="79524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50aff"/>
                </a:solidFill>
                <a:latin typeface="Arial"/>
              </a:rPr>
              <a:t>INIC strategy for investment promotion</a:t>
            </a:r>
            <a:endParaRPr b="1" lang="en-US" sz="2000" spc="-1" strike="noStrike">
              <a:solidFill>
                <a:srgbClr val="330066"/>
              </a:solidFill>
              <a:latin typeface="Arial"/>
            </a:endParaRPr>
          </a:p>
        </p:txBody>
      </p:sp>
      <p:sp>
        <p:nvSpPr>
          <p:cNvPr id="630" name=""/>
          <p:cNvSpPr txBox="1"/>
          <p:nvPr/>
        </p:nvSpPr>
        <p:spPr>
          <a:xfrm>
            <a:off x="457200" y="1285920"/>
            <a:ext cx="8229600" cy="44114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 Operate to develop a strategy for investment promotion, which is based on three steps:</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ssessing the needs and possibilities of investment, where the strategy of promotion for the commission as a promotional marketing plan by which investors determine the target and thus the quality of the promotional activities that must be introduced in this context must determine the following steps to start the marketing process:</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entify development goals for Iraq and therefore the objectives of the (NIC)</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entify the global and regional trends prevailing on foreign direct investment</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ze the strengths and weaknesses of the situation in Iraq</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ze the strengths and weaknesses of the competing countries</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ication of industrial sectors and sources of investment targeted where it is to complete the quartet analysis we can made up a picture about the strengths and weaknesses of Iraq and the location of its rivals and based on this information to determine the industrial sectors which the country may succeed in the attraction followed by a detailed promotional strategy in accordance with the specific needs of targeted companies, which active in these industrial sectors.</a:t>
            </a:r>
            <a:endParaRPr b="0" lang="en-US" sz="1600" spc="-1" strike="noStrike">
              <a:solidFill>
                <a:srgbClr val="000000"/>
              </a:solidFill>
              <a:latin typeface="Arial"/>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velop the promotional strategy.</a:t>
            </a:r>
            <a:endParaRPr b="0" lang="en-US" sz="1600" spc="-1" strike="noStrike">
              <a:solidFill>
                <a:srgbClr val="000000"/>
              </a:solidFill>
              <a:latin typeface="Arial"/>
            </a:endParaRPr>
          </a:p>
        </p:txBody>
      </p:sp>
      <p:sp>
        <p:nvSpPr>
          <p:cNvPr id="6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879-9DDD-44BC-84A7-CCAA57E65B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32" name="Picture 28" descr="http://investpromo.gov.iq/wp-content/themes/nic/images/logo-2.png"/>
          <p:cNvPicPr/>
          <p:nvPr/>
        </p:nvPicPr>
        <p:blipFill>
          <a:blip r:embed="rId1">
            <a:lum contrast="18000"/>
          </a:blip>
          <a:stretch/>
        </p:blipFill>
        <p:spPr>
          <a:xfrm>
            <a:off x="8034480" y="214200"/>
            <a:ext cx="895320" cy="10000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B744-A72F-4E95-A3ED-0584FF82E3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634" name="Picture 28" descr="http://investpromo.gov.iq/wp-content/themes/nic/images/logo-2.png"/>
          <p:cNvPicPr/>
          <p:nvPr/>
        </p:nvPicPr>
        <p:blipFill>
          <a:blip r:embed="rId1">
            <a:lum contrast="18000"/>
          </a:blip>
          <a:stretch/>
        </p:blipFill>
        <p:spPr>
          <a:xfrm>
            <a:off x="3500280" y="857160"/>
            <a:ext cx="1643400" cy="1835280"/>
          </a:xfrm>
          <a:prstGeom prst="rect">
            <a:avLst/>
          </a:prstGeom>
          <a:ln w="0">
            <a:noFill/>
          </a:ln>
        </p:spPr>
      </p:pic>
      <p:sp>
        <p:nvSpPr>
          <p:cNvPr id="635" name=""/>
          <p:cNvSpPr txBox="1"/>
          <p:nvPr/>
        </p:nvSpPr>
        <p:spPr>
          <a:xfrm>
            <a:off x="457200" y="1285920"/>
            <a:ext cx="8229600" cy="4411440"/>
          </a:xfrm>
          <a:prstGeom prst="rect">
            <a:avLst/>
          </a:prstGeom>
          <a:noFill/>
          <a:ln w="0">
            <a:noFill/>
          </a:ln>
        </p:spPr>
        <p:txBody>
          <a:bodyPr anchor="t">
            <a:normAutofit/>
          </a:bodyPr>
          <a:p>
            <a:pPr marL="343080" indent="-343080" algn="ct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ank you for listening</a:t>
            </a:r>
            <a:r>
              <a:rPr b="1" lang="en-US" sz="4800" spc="-1" strike="noStrike">
                <a:solidFill>
                  <a:srgbClr val="ff0000"/>
                </a:solidFill>
                <a:latin typeface="Arial"/>
              </a:rPr>
              <a:t> </a:t>
            </a:r>
            <a:endParaRPr b="0" lang="en-US" sz="4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7:14:02Z</dcterms:created>
  <dc:creator>promotion</dc:creator>
  <dc:description/>
  <dc:language>en-US</dc:language>
  <cp:lastModifiedBy>user43</cp:lastModifiedBy>
  <dcterms:modified xsi:type="dcterms:W3CDTF">2015-05-19T05:56:19Z</dcterms:modified>
  <cp:revision>142</cp:revision>
  <dc:subject/>
  <dc:title>Slide 1</dc:title>
</cp:coreProperties>
</file>